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DA0-20F4-4143-B3AA-27EC3B53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87E-C465-404F-AA8C-C36D3A7E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137-4618-44D9-ACC8-FB28F4A2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A3A-FBFC-4F1A-B36C-EFB9E492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F90-5C6D-428B-8431-64304CA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3B0-5A20-4D9B-AA3C-3C396B1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EA2-4457-4327-8DFD-A0B459B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EA5-C0B7-4DFC-B4C0-331A8EB4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C86-C119-4304-8CCB-03CF8789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132-78FE-4BC5-9925-C13E9A02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590-5AE5-47D5-8234-8287E26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D92-12D6-42A8-BAB3-CBA111A1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9BAC-DCB5-4B10-BA66-F67240A4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152280" y="0"/>
            <a:ext cx="9144000" cy="64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100 M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Frequ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Perpetua Titling MT"/>
              </a:rPr>
              <a:t>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Perpetua Titling MT"/>
              <a:ea typeface="Perpetua Titling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4520" y="-304920"/>
            <a:ext cx="2663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d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56720" y="-322200"/>
            <a:ext cx="272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in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74880" y="-304920"/>
            <a:ext cx="2788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275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28640" y="-322200"/>
            <a:ext cx="2166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v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6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-274680"/>
            <a:ext cx="441972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20440" y="-304920"/>
            <a:ext cx="1858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00" y="-228600"/>
            <a:ext cx="1980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0800" y="-304920"/>
            <a:ext cx="1610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80" y="-246240"/>
            <a:ext cx="22899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4840" y="-246240"/>
            <a:ext cx="1857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i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4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0" y="-24624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4480" y="-246240"/>
            <a:ext cx="21056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il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4480" y="-304920"/>
            <a:ext cx="26647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0" dur="1" fill="hold"/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80" y="-304920"/>
            <a:ext cx="2601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21880" y="-304920"/>
            <a:ext cx="25992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20" y="-322200"/>
            <a:ext cx="2477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m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4840" y="-322200"/>
            <a:ext cx="235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og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9080" y="-668160"/>
            <a:ext cx="183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480" y="-304920"/>
            <a:ext cx="2535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m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jus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4480" y="-322200"/>
            <a:ext cx="2908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tre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09:45Z</dcterms:created>
  <dc:creator>Administrator</dc:creator>
  <dc:description/>
  <dc:language>en-US</dc:language>
  <cp:lastModifiedBy>Jefferson-Lewis BOCES</cp:lastModifiedBy>
  <dcterms:modified xsi:type="dcterms:W3CDTF">2005-03-10T14:37:55Z</dcterms:modified>
  <cp:revision>1</cp:revision>
  <dc:subject/>
  <dc:title>PowerPoint Presentation</dc:title>
</cp:coreProperties>
</file>