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2E2E-4FC1-4C63-9F55-232FEB70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AE73-2981-4E0E-A413-748F00BB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ACA5-B610-42BD-868E-F75E7D41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554C-2B77-475C-B537-FBCB4985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3310-DEA7-48A2-A700-57520D65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237-60A5-4CFF-B109-EB2AF83A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627-4CB0-402B-862E-94DCF435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D59-1205-4207-A924-A73EC51A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1863-6C6E-4972-B749-FA208068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A5A-CA45-4E2A-A731-B45A1A00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78F-E21C-4ACA-B303-45D55558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B351-65A1-4732-A3B0-4F8F3475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9400-DD43-4C78-B746-FD2960D2B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-152280" y="0"/>
            <a:ext cx="9144000" cy="640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Perpetua Titling MT"/>
              </a:rPr>
              <a:t>100 M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atin typeface="Perpetua Titling MT"/>
              <a:ea typeface="Perpetua Titling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Perpetua Titling M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Perpetua Titling MT"/>
              </a:rPr>
              <a:t>Frequ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atin typeface="Perpetua Titling MT"/>
              <a:ea typeface="Perpetua Titling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Perpetua Titling M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Perpetua Titling MT"/>
              </a:rPr>
              <a:t>Word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atin typeface="Perpetua Titling MT"/>
              <a:ea typeface="Perpetua Titling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74520" y="-304920"/>
            <a:ext cx="26632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mad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56720" y="-322200"/>
            <a:ext cx="2728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a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going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74880" y="-304920"/>
            <a:ext cx="27882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ow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27560" y="-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28640" y="-322200"/>
            <a:ext cx="21664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m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ov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saw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0" dur="1" fill="hold"/>
                                  <p:tgtEl>
                                    <p:spTgt spid="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-274680"/>
            <a:ext cx="441972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20440" y="-304920"/>
            <a:ext cx="18586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00" y="-228600"/>
            <a:ext cx="19807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ca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m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20800" y="-304920"/>
            <a:ext cx="16102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r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80" y="-246240"/>
            <a:ext cx="22899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ith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4840" y="-246240"/>
            <a:ext cx="18572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big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" dur="1" fill="hold"/>
                                  <p:tgtEl>
                                    <p:spTgt spid="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0" y="-246240"/>
            <a:ext cx="23526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a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lik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no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4480" y="-246240"/>
            <a:ext cx="21056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40" y="-322200"/>
            <a:ext cx="23526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sh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en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se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ill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4480" y="-304920"/>
            <a:ext cx="26647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so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dow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littl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co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80" y="-304920"/>
            <a:ext cx="2601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her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nt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21880" y="-304920"/>
            <a:ext cx="25992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look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i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" dur="1" fill="hold"/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20" y="-322200"/>
            <a:ext cx="24775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you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mom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4840" y="-322200"/>
            <a:ext cx="23526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ver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6" dur="1" fill="hold"/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9080" y="-668160"/>
            <a:ext cx="1839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480" y="-304920"/>
            <a:ext cx="25354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pu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ca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jus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4480" y="-322200"/>
            <a:ext cx="2908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ca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hem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wa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4" dur="1" fill="hold"/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09:45Z</dcterms:created>
  <dc:creator>Administrator</dc:creator>
  <dc:description/>
  <dc:language>en-US</dc:language>
  <cp:lastModifiedBy>Jefferson-Lewis BOCES</cp:lastModifiedBy>
  <dcterms:modified xsi:type="dcterms:W3CDTF">2005-03-10T14:37:55Z</dcterms:modified>
  <cp:revision>1</cp:revision>
  <dc:subject/>
  <dc:title>PowerPoint Presentation</dc:title>
</cp:coreProperties>
</file>