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878-CF9F-4EE8-ABF1-439D2DFA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54A-A987-4DCF-A9A7-5280193A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C8C-65DF-4168-ABAF-B279D3D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24E-9418-48EA-944E-0EDA5E20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51A-72DE-4162-B639-83029723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0DB-ADC2-4A00-9100-93E4C1B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65E-BBD6-4201-92DE-2E1DEBEE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7F9-8766-4A3A-8F3C-B8F571DC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EEC-57A3-4FEB-9C3A-1419CF5A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4CF-8826-4167-B8BB-7789EC8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2B1-DC75-4E90-AC4F-4112BBD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DA4-AEC0-4BAF-AB45-0BD7387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7FF2-00DF-42BC-9DDD-E7C40504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52280" y="0"/>
            <a:ext cx="91440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100 M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Frequ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4520" y="-304920"/>
            <a:ext cx="2663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d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56720" y="-322200"/>
            <a:ext cx="272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74880" y="-304920"/>
            <a:ext cx="278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75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8640" y="-322200"/>
            <a:ext cx="2166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v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274680"/>
            <a:ext cx="44197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0440" y="-304920"/>
            <a:ext cx="1858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" y="-228600"/>
            <a:ext cx="1980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0800" y="-304920"/>
            <a:ext cx="1610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" y="-246240"/>
            <a:ext cx="2289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4840" y="-246240"/>
            <a:ext cx="1857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0" y="-24624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4480" y="-246240"/>
            <a:ext cx="2105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4480" y="-304920"/>
            <a:ext cx="26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" y="-304920"/>
            <a:ext cx="2601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1880" y="-304920"/>
            <a:ext cx="2599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20" y="-322200"/>
            <a:ext cx="2477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48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080" y="-668160"/>
            <a:ext cx="183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0" y="-304920"/>
            <a:ext cx="2535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jus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4480" y="-322200"/>
            <a:ext cx="290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09:45Z</dcterms:created>
  <dc:creator>Administrator</dc:creator>
  <dc:description/>
  <dc:language>en-US</dc:language>
  <cp:lastModifiedBy>Jefferson-Lewis BOCES</cp:lastModifiedBy>
  <dcterms:modified xsi:type="dcterms:W3CDTF">2005-03-10T14:37:55Z</dcterms:modified>
  <cp:revision>1</cp:revision>
  <dc:subject/>
  <dc:title>PowerPoint Presentation</dc:title>
</cp:coreProperties>
</file>