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BCC-310F-4CA4-9AA0-7E39F6BC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49BD-CECF-469B-BD52-C3FB4363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F3F-80AE-4E51-B23C-DEEE3A77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562-8E3D-4CFD-A808-10E8BA19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525-8F87-4838-9E2E-D1502FF1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D3A-7054-4F75-A5DF-66923AC0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9EB-ADDA-4979-BE8D-161F0719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5F6-B727-4857-8B90-1F0FD495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71E-B904-42E8-9D67-763E4D02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7FD-D6D3-4D54-B8AE-3F8FAF5F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954-4C2E-4C0D-BF27-EFBF9B7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67A-6DBA-4C77-9724-480C8B1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A402-6B8E-4F9C-95DC-8C39BBE64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" Target="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16.wmf"/><Relationship Id="rId7" Type="http://schemas.openxmlformats.org/officeDocument/2006/relationships/slide" Target="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wmf"/><Relationship Id="rId4" Type="http://schemas.openxmlformats.org/officeDocument/2006/relationships/slide" Target=""/><Relationship Id="rId5" Type="http://schemas.openxmlformats.org/officeDocument/2006/relationships/image" Target="../media/image18.wmf"/><Relationship Id="rId6" Type="http://schemas.openxmlformats.org/officeDocument/2006/relationships/slide" Target="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wmf"/><Relationship Id="rId4" Type="http://schemas.openxmlformats.org/officeDocument/2006/relationships/slide" Target="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" Target="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image" Target="../media/image2.wmf"/><Relationship Id="rId7" Type="http://schemas.openxmlformats.org/officeDocument/2006/relationships/slide" Target="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image" Target="../media/image19.wmf"/><Relationship Id="rId6" Type="http://schemas.openxmlformats.org/officeDocument/2006/relationships/slide" Target="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6.xm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9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22.wmf"/><Relationship Id="rId6" Type="http://schemas.openxmlformats.org/officeDocument/2006/relationships/slide" Target="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9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2.xm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5.xml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image" Target="../media/image6.wmf"/><Relationship Id="rId5" Type="http://schemas.openxmlformats.org/officeDocument/2006/relationships/slide" Target=""/><Relationship Id="rId6" Type="http://schemas.openxmlformats.org/officeDocument/2006/relationships/image" Target="../media/image7.wmf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38.xm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5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image" Target="../media/image10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image" Target="../media/image5.wmf"/><Relationship Id="rId5" Type="http://schemas.openxmlformats.org/officeDocument/2006/relationships/image" Target="../media/image25.wmf"/><Relationship Id="rId6" Type="http://schemas.openxmlformats.org/officeDocument/2006/relationships/slide" Target="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1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4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17.wmf"/><Relationship Id="rId7" Type="http://schemas.openxmlformats.org/officeDocument/2006/relationships/slide" Target="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47.xm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" Target=""/><Relationship Id="rId6" Type="http://schemas.openxmlformats.org/officeDocument/2006/relationships/image" Target="../media/image23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7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0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wmf"/><Relationship Id="rId4" Type="http://schemas.openxmlformats.org/officeDocument/2006/relationships/slide" Target="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" Target="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3.xml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"/><Relationship Id="rId3" Type="http://schemas.openxmlformats.org/officeDocument/2006/relationships/image" Target="../media/image26.wmf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slide" Target="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3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6.xml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image" Target="../media/image26.wmf"/><Relationship Id="rId4" Type="http://schemas.openxmlformats.org/officeDocument/2006/relationships/slide" Target=""/><Relationship Id="rId5" Type="http://schemas.openxmlformats.org/officeDocument/2006/relationships/image" Target="../media/image13.wmf"/><Relationship Id="rId6" Type="http://schemas.openxmlformats.org/officeDocument/2006/relationships/slide" Target="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19.wmf"/><Relationship Id="rId7" Type="http://schemas.openxmlformats.org/officeDocument/2006/relationships/slide" Target="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9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62.xml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"/><Relationship Id="rId3" Type="http://schemas.openxmlformats.org/officeDocument/2006/relationships/image" Target="../media/image20.wmf"/><Relationship Id="rId4" Type="http://schemas.openxmlformats.org/officeDocument/2006/relationships/slide" Target=""/><Relationship Id="rId5" Type="http://schemas.openxmlformats.org/officeDocument/2006/relationships/image" Target="../media/image24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2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" Target=""/><Relationship Id="rId6" Type="http://schemas.openxmlformats.org/officeDocument/2006/relationships/image" Target="../media/image9.wmf"/><Relationship Id="rId7" Type="http://schemas.openxmlformats.org/officeDocument/2006/relationships/slide" Target="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2860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r  Beginning Letters 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5053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rs. Keenan’s 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vember, 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10280" y="4952880"/>
            <a:ext cx="1812960" cy="1505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6072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98920" cy="184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162920" y="380880"/>
            <a:ext cx="16272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" y="4952880"/>
            <a:ext cx="1876320" cy="1073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200400" y="1434960"/>
            <a:ext cx="2362320" cy="1211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229860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657600" y="4419720"/>
            <a:ext cx="17985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81280" y="114300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487512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05320" y="4724280"/>
            <a:ext cx="1850760" cy="1319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29400" y="4572000"/>
            <a:ext cx="18288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267080"/>
            <a:ext cx="1373040" cy="1914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3733920" y="1371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298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4495680"/>
            <a:ext cx="1830600" cy="182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42900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262320" y="9144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85800" y="464832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81680" y="426708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419720"/>
            <a:ext cx="1830240" cy="182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733920" y="1143000"/>
            <a:ext cx="1260360" cy="1841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33520" y="441972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86200" y="4572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29000" y="1143000"/>
            <a:ext cx="1798560" cy="18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05720" y="4572000"/>
            <a:ext cx="1830240" cy="1830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" y="4648320"/>
            <a:ext cx="159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038480" y="48006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457200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05320" y="106668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9480" y="457200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429000" y="1752480"/>
            <a:ext cx="183528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49568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77120" y="4800600"/>
            <a:ext cx="2089080" cy="1479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38080" y="5181480"/>
            <a:ext cx="129564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4320" y="502920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81280" y="4952880"/>
            <a:ext cx="1876680" cy="1073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429000" y="1295280"/>
            <a:ext cx="2089080" cy="1479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219320" y="487692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429000" y="4648320"/>
            <a:ext cx="2057400" cy="1563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" y="449568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05720" y="457200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505320" y="1447920"/>
            <a:ext cx="183816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315200" y="4495680"/>
            <a:ext cx="914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57200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4876920"/>
            <a:ext cx="1295640" cy="1119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809880" y="1066680"/>
            <a:ext cx="1373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4494240"/>
            <a:ext cx="1752840" cy="1411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4343400"/>
            <a:ext cx="1830600" cy="182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895480" y="1219320"/>
            <a:ext cx="3276720" cy="161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581280" y="4432320"/>
            <a:ext cx="16765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05720" y="4800600"/>
            <a:ext cx="1876320" cy="1073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4876920"/>
            <a:ext cx="2292120" cy="1020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1447920"/>
            <a:ext cx="1828800" cy="1333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9880" y="4648320"/>
            <a:ext cx="180684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4724280"/>
            <a:ext cx="2514600" cy="1438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24480" y="4952880"/>
            <a:ext cx="2514600" cy="1119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4648320"/>
            <a:ext cx="2057400" cy="1563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505320" y="137160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449568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4927680"/>
            <a:ext cx="1295280" cy="1119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76720" y="1143000"/>
            <a:ext cx="2298600" cy="185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9880" y="4495680"/>
            <a:ext cx="1260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4572000"/>
            <a:ext cx="1819440" cy="1665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733920" y="4724280"/>
            <a:ext cx="1828800" cy="1333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4876920"/>
            <a:ext cx="2666880" cy="1314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3581280" y="1219320"/>
            <a:ext cx="16765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9880" y="4800600"/>
            <a:ext cx="1067040" cy="10317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4267080"/>
            <a:ext cx="1830240" cy="1827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81680" y="4267080"/>
            <a:ext cx="1260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080" y="4876920"/>
            <a:ext cx="1067040" cy="103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487692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429000" y="4648320"/>
            <a:ext cx="16272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57200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14800" y="4724280"/>
            <a:ext cx="1371600" cy="1105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429000" y="1066680"/>
            <a:ext cx="1830240" cy="18306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62120" y="4495680"/>
            <a:ext cx="17985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1627200" cy="1771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4648320"/>
            <a:ext cx="1801800" cy="18748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33920" y="4952880"/>
            <a:ext cx="1838160" cy="12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6477120" y="4572000"/>
            <a:ext cx="22986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2257200" cy="3124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666880" y="4495680"/>
            <a:ext cx="35053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 Job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5791320"/>
            <a:ext cx="1143000" cy="8380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7696080" y="5791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3" action="ppaction://hlinksldjump"/>
              </a:rPr>
              <a:t>Play 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2514600" y="762120"/>
            <a:ext cx="3886200" cy="259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14400" y="4419720"/>
            <a:ext cx="1181160" cy="175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657600" y="1600200"/>
            <a:ext cx="1371600" cy="110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010280" y="4495680"/>
            <a:ext cx="1594080" cy="1600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33920" y="4572000"/>
            <a:ext cx="181296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3c3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3124080" y="2057400"/>
            <a:ext cx="3124440" cy="259092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2286000"/>
            <a:ext cx="26668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Try  Aga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20:38:11Z</dcterms:created>
  <dc:creator>Administrator</dc:creator>
  <dc:description/>
  <dc:language>en-US</dc:language>
  <cp:lastModifiedBy>Allison Sylver</cp:lastModifiedBy>
  <dcterms:modified xsi:type="dcterms:W3CDTF">2005-11-21T15:45:59Z</dcterms:modified>
  <cp:revision>30</cp:revision>
  <dc:subject/>
  <dc:title>PowerPoint Presentation</dc:title>
</cp:coreProperties>
</file>