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51E1-6E47-48DE-8511-02F53867F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933D-17E5-46D0-A34B-86904839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4F26-21DC-4E70-945D-8C43D37D5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EDAF-E3A9-4B68-BFBD-EE0E32265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FB9F-7987-45DD-A731-27EDA1E3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2856-0714-454F-8E44-CF8F4AB3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37A3-EDF4-4DA2-B4B6-ABA698FB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E301-CD13-4CF4-95FC-3AD59307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FEAD-68C5-4DF3-95D4-F6501179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F6D1-E28D-43E4-A82D-73A637F4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2DDE-F000-4F6C-8E25-914C241B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092B-2D0E-4CDA-8C7E-36BF5F70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3B1D-1911-4AC6-8DB2-F8157D593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11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" Target=""/><Relationship Id="rId6" Type="http://schemas.openxmlformats.org/officeDocument/2006/relationships/image" Target="../media/image11.wmf"/><Relationship Id="rId7" Type="http://schemas.openxmlformats.org/officeDocument/2006/relationships/slide" Target="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1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14.xm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wmf"/><Relationship Id="rId3" Type="http://schemas.openxmlformats.org/officeDocument/2006/relationships/slide" Target=""/><Relationship Id="rId4" Type="http://schemas.openxmlformats.org/officeDocument/2006/relationships/image" Target="../media/image13.wmf"/><Relationship Id="rId5" Type="http://schemas.openxmlformats.org/officeDocument/2006/relationships/slide" Target=""/><Relationship Id="rId6" Type="http://schemas.openxmlformats.org/officeDocument/2006/relationships/image" Target="../media/image16.wmf"/><Relationship Id="rId7" Type="http://schemas.openxmlformats.org/officeDocument/2006/relationships/slide" Target="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4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17.xm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6.wmf"/><Relationship Id="rId4" Type="http://schemas.openxmlformats.org/officeDocument/2006/relationships/slide" Target=""/><Relationship Id="rId5" Type="http://schemas.openxmlformats.org/officeDocument/2006/relationships/image" Target="../media/image18.wmf"/><Relationship Id="rId6" Type="http://schemas.openxmlformats.org/officeDocument/2006/relationships/slide" Target="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7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20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5.wmf"/><Relationship Id="rId4" Type="http://schemas.openxmlformats.org/officeDocument/2006/relationships/slide" Target="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" Target="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9.wmf"/><Relationship Id="rId4" Type="http://schemas.openxmlformats.org/officeDocument/2006/relationships/slide" Target=""/><Relationship Id="rId5" Type="http://schemas.openxmlformats.org/officeDocument/2006/relationships/image" Target="../media/image5.wmf"/><Relationship Id="rId6" Type="http://schemas.openxmlformats.org/officeDocument/2006/relationships/image" Target="../media/image2.wmf"/><Relationship Id="rId7" Type="http://schemas.openxmlformats.org/officeDocument/2006/relationships/slide" Target="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23.xm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0.xm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2.wmf"/><Relationship Id="rId3" Type="http://schemas.openxmlformats.org/officeDocument/2006/relationships/image" Target="../media/image3.wmf"/><Relationship Id="rId4" Type="http://schemas.openxmlformats.org/officeDocument/2006/relationships/slide" Target=""/><Relationship Id="rId5" Type="http://schemas.openxmlformats.org/officeDocument/2006/relationships/image" Target="../media/image19.wmf"/><Relationship Id="rId6" Type="http://schemas.openxmlformats.org/officeDocument/2006/relationships/slide" Target="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3.xm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26.xml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wmf"/><Relationship Id="rId3" Type="http://schemas.openxmlformats.org/officeDocument/2006/relationships/image" Target="../media/image20.wmf"/><Relationship Id="rId4" Type="http://schemas.openxmlformats.org/officeDocument/2006/relationships/slide" Target="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6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29.xml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" Target=""/><Relationship Id="rId3" Type="http://schemas.openxmlformats.org/officeDocument/2006/relationships/image" Target="../media/image20.wmf"/><Relationship Id="rId4" Type="http://schemas.openxmlformats.org/officeDocument/2006/relationships/slide" Target=""/><Relationship Id="rId5" Type="http://schemas.openxmlformats.org/officeDocument/2006/relationships/image" Target="../media/image22.wmf"/><Relationship Id="rId6" Type="http://schemas.openxmlformats.org/officeDocument/2006/relationships/slide" Target="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9.xm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32.xml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3.wmf"/><Relationship Id="rId3" Type="http://schemas.openxmlformats.org/officeDocument/2006/relationships/slide" Target=""/><Relationship Id="rId4" Type="http://schemas.openxmlformats.org/officeDocument/2006/relationships/image" Target="../media/image14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2.xml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35.xml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3.wmf"/><Relationship Id="rId3" Type="http://schemas.openxmlformats.org/officeDocument/2006/relationships/slide" Target=""/><Relationship Id="rId4" Type="http://schemas.openxmlformats.org/officeDocument/2006/relationships/image" Target="../media/image6.wmf"/><Relationship Id="rId5" Type="http://schemas.openxmlformats.org/officeDocument/2006/relationships/slide" Target=""/><Relationship Id="rId6" Type="http://schemas.openxmlformats.org/officeDocument/2006/relationships/image" Target="../media/image7.wmf"/><Relationship Id="rId7" Type="http://schemas.openxmlformats.org/officeDocument/2006/relationships/image" Target="../media/image24.wmf"/><Relationship Id="rId8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38.xml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5.xml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wmf"/><Relationship Id="rId3" Type="http://schemas.openxmlformats.org/officeDocument/2006/relationships/slide" Target=""/><Relationship Id="rId4" Type="http://schemas.openxmlformats.org/officeDocument/2006/relationships/image" Target="../media/image10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8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41.xml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3.wmf"/><Relationship Id="rId3" Type="http://schemas.openxmlformats.org/officeDocument/2006/relationships/slide" Target=""/><Relationship Id="rId4" Type="http://schemas.openxmlformats.org/officeDocument/2006/relationships/image" Target="../media/image5.wmf"/><Relationship Id="rId5" Type="http://schemas.openxmlformats.org/officeDocument/2006/relationships/image" Target="../media/image25.wmf"/><Relationship Id="rId6" Type="http://schemas.openxmlformats.org/officeDocument/2006/relationships/slide" Target="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1.xm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44.xml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4.wmf"/><Relationship Id="rId3" Type="http://schemas.openxmlformats.org/officeDocument/2006/relationships/slide" Target=""/><Relationship Id="rId4" Type="http://schemas.openxmlformats.org/officeDocument/2006/relationships/image" Target="../media/image21.wmf"/><Relationship Id="rId5" Type="http://schemas.openxmlformats.org/officeDocument/2006/relationships/slide" Target=""/><Relationship Id="rId6" Type="http://schemas.openxmlformats.org/officeDocument/2006/relationships/image" Target="../media/image17.wmf"/><Relationship Id="rId7" Type="http://schemas.openxmlformats.org/officeDocument/2006/relationships/slide" Target="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4.xml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47.xml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4.wmf"/><Relationship Id="rId3" Type="http://schemas.openxmlformats.org/officeDocument/2006/relationships/slide" Target=""/><Relationship Id="rId4" Type="http://schemas.openxmlformats.org/officeDocument/2006/relationships/image" Target="../media/image21.wmf"/><Relationship Id="rId5" Type="http://schemas.openxmlformats.org/officeDocument/2006/relationships/slide" Target=""/><Relationship Id="rId6" Type="http://schemas.openxmlformats.org/officeDocument/2006/relationships/image" Target="../media/image23.wmf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7.xml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9.wmf"/><Relationship Id="rId4" Type="http://schemas.openxmlformats.org/officeDocument/2006/relationships/slide" Target="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" Target="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wmf"/><Relationship Id="rId3" Type="http://schemas.openxmlformats.org/officeDocument/2006/relationships/slide" Target=""/><Relationship Id="rId4" Type="http://schemas.openxmlformats.org/officeDocument/2006/relationships/image" Target="../media/image17.wmf"/><Relationship Id="rId5" Type="http://schemas.openxmlformats.org/officeDocument/2006/relationships/slide" Target="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50.xml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53.xml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"/><Relationship Id="rId3" Type="http://schemas.openxmlformats.org/officeDocument/2006/relationships/image" Target="../media/image26.wmf"/><Relationship Id="rId4" Type="http://schemas.openxmlformats.org/officeDocument/2006/relationships/slide" Target=""/><Relationship Id="rId5" Type="http://schemas.openxmlformats.org/officeDocument/2006/relationships/image" Target="../media/image5.wmf"/><Relationship Id="rId6" Type="http://schemas.openxmlformats.org/officeDocument/2006/relationships/slide" Target="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53.xml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56.xml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"/><Relationship Id="rId3" Type="http://schemas.openxmlformats.org/officeDocument/2006/relationships/image" Target="../media/image26.wmf"/><Relationship Id="rId4" Type="http://schemas.openxmlformats.org/officeDocument/2006/relationships/slide" Target=""/><Relationship Id="rId5" Type="http://schemas.openxmlformats.org/officeDocument/2006/relationships/image" Target="../media/image13.wmf"/><Relationship Id="rId6" Type="http://schemas.openxmlformats.org/officeDocument/2006/relationships/slide" Target="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56.xml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59.xml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2.wmf"/><Relationship Id="rId3" Type="http://schemas.openxmlformats.org/officeDocument/2006/relationships/slide" Target=""/><Relationship Id="rId4" Type="http://schemas.openxmlformats.org/officeDocument/2006/relationships/image" Target="../media/image13.wmf"/><Relationship Id="rId5" Type="http://schemas.openxmlformats.org/officeDocument/2006/relationships/slide" Target=""/><Relationship Id="rId6" Type="http://schemas.openxmlformats.org/officeDocument/2006/relationships/image" Target="../media/image19.wmf"/><Relationship Id="rId7" Type="http://schemas.openxmlformats.org/officeDocument/2006/relationships/slide" Target="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59.xml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62.xml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"/><Relationship Id="rId3" Type="http://schemas.openxmlformats.org/officeDocument/2006/relationships/image" Target="../media/image20.wmf"/><Relationship Id="rId4" Type="http://schemas.openxmlformats.org/officeDocument/2006/relationships/slide" Target=""/><Relationship Id="rId5" Type="http://schemas.openxmlformats.org/officeDocument/2006/relationships/image" Target="../media/image24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62.xm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" Target=""/><Relationship Id="rId6" Type="http://schemas.openxmlformats.org/officeDocument/2006/relationships/image" Target="../media/image9.wmf"/><Relationship Id="rId7" Type="http://schemas.openxmlformats.org/officeDocument/2006/relationships/slide" Target="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228600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ur  Beginning Letters G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14600" y="3505320"/>
            <a:ext cx="4191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rs. Keenan’s 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vember, 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28600"/>
            <a:ext cx="8763120" cy="6477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010280" y="4952880"/>
            <a:ext cx="1812960" cy="1505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1260720" cy="1841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80880" y="4648320"/>
            <a:ext cx="1798920" cy="1842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162920" y="380880"/>
            <a:ext cx="162720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"/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5800" y="4952880"/>
            <a:ext cx="1876320" cy="1073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3200400" y="1434960"/>
            <a:ext cx="2362320" cy="1211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400800" y="4343400"/>
            <a:ext cx="2298600" cy="1854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657600" y="4419720"/>
            <a:ext cx="179856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81280" y="1143000"/>
            <a:ext cx="1819440" cy="1665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2120" y="4875120"/>
            <a:ext cx="1371600" cy="1104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505320" y="4724280"/>
            <a:ext cx="1850760" cy="1319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629400" y="4572000"/>
            <a:ext cx="182880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"/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581280" y="4495680"/>
            <a:ext cx="1819440" cy="1665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858000" y="4267080"/>
            <a:ext cx="1373040" cy="19144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3733920" y="1371600"/>
            <a:ext cx="1143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3520" y="4495680"/>
            <a:ext cx="229860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"/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>
            <a:hlinkClick r:id="rId1" action="ppaction://hlinksldjump"/>
          </p:cNvPr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781680" y="4495680"/>
            <a:ext cx="1830600" cy="1827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29000" y="4495680"/>
            <a:ext cx="1819440" cy="1665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3262320" y="914400"/>
            <a:ext cx="2276640" cy="2286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85800" y="4648320"/>
            <a:ext cx="181296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781680" y="4267080"/>
            <a:ext cx="1820880" cy="1828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733920" y="4419720"/>
            <a:ext cx="1830240" cy="1827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3733920" y="1143000"/>
            <a:ext cx="1260360" cy="1841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33520" y="4419720"/>
            <a:ext cx="16272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86200" y="4572000"/>
            <a:ext cx="1181160" cy="1751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429000" y="1143000"/>
            <a:ext cx="1798560" cy="1843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705720" y="4572000"/>
            <a:ext cx="1830240" cy="1830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85800" y="4648320"/>
            <a:ext cx="1593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038480" y="4800600"/>
            <a:ext cx="1143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4572000"/>
            <a:ext cx="1594080" cy="1600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505320" y="1066680"/>
            <a:ext cx="1801800" cy="1874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09480" y="4572000"/>
            <a:ext cx="16272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"/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429000" y="1752480"/>
            <a:ext cx="1835280" cy="8175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581280" y="4495680"/>
            <a:ext cx="1801800" cy="1874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477120" y="4800600"/>
            <a:ext cx="2089080" cy="1479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38080" y="5181480"/>
            <a:ext cx="129564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"/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029200"/>
            <a:ext cx="1371600" cy="11048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81280" y="4952880"/>
            <a:ext cx="1876680" cy="10731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3429000" y="1295280"/>
            <a:ext cx="2089080" cy="14796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1219320" y="4876920"/>
            <a:ext cx="1143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429000" y="4648320"/>
            <a:ext cx="2057400" cy="15634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57200" y="4495680"/>
            <a:ext cx="1819440" cy="1665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705720" y="4572000"/>
            <a:ext cx="1806480" cy="18144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3505320" y="1447920"/>
            <a:ext cx="183816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315200" y="4495680"/>
            <a:ext cx="914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4572000"/>
            <a:ext cx="1594080" cy="1600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9880" y="4876920"/>
            <a:ext cx="1295640" cy="11192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3809880" y="1066680"/>
            <a:ext cx="1373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"/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4494240"/>
            <a:ext cx="1752840" cy="1411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09480" y="4343400"/>
            <a:ext cx="1830600" cy="1827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2895480" y="1219320"/>
            <a:ext cx="3276720" cy="16142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81280" y="4432320"/>
            <a:ext cx="167652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4" name=""/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4800600"/>
            <a:ext cx="1876320" cy="10731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3520" y="4876920"/>
            <a:ext cx="2292120" cy="10206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429000" y="1447920"/>
            <a:ext cx="1828800" cy="1333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809880" y="4648320"/>
            <a:ext cx="180684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6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4724280"/>
            <a:ext cx="2514600" cy="14385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324480" y="4952880"/>
            <a:ext cx="2514600" cy="11192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429000" y="4648320"/>
            <a:ext cx="2057400" cy="15634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7"/>
          <a:stretch/>
        </p:blipFill>
        <p:spPr>
          <a:xfrm>
            <a:off x="3505320" y="1371600"/>
            <a:ext cx="181296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>
            <a:hlinkClick r:id="rId1" action="ppaction://hlinksldjump"/>
          </p:cNvPr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010280" y="4495680"/>
            <a:ext cx="1594080" cy="1600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85800" y="4927680"/>
            <a:ext cx="1295280" cy="1119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3276720" y="1143000"/>
            <a:ext cx="2298600" cy="1854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809880" y="4495680"/>
            <a:ext cx="126072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4572000"/>
            <a:ext cx="1819440" cy="16653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733920" y="4724280"/>
            <a:ext cx="1828800" cy="13338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248520" y="4876920"/>
            <a:ext cx="2666880" cy="13143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7"/>
          <a:stretch/>
        </p:blipFill>
        <p:spPr>
          <a:xfrm>
            <a:off x="3581280" y="1219320"/>
            <a:ext cx="167652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0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3505320" y="1143000"/>
            <a:ext cx="1820880" cy="18288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9880" y="4800600"/>
            <a:ext cx="1067040" cy="10317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85800" y="4267080"/>
            <a:ext cx="1830240" cy="18273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781680" y="4267080"/>
            <a:ext cx="126072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"/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733920" y="1143000"/>
            <a:ext cx="1181160" cy="17510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080" y="4876920"/>
            <a:ext cx="1067040" cy="103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858000" y="4876920"/>
            <a:ext cx="1371600" cy="11048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29000" y="4648320"/>
            <a:ext cx="16272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4" name=""/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4572000"/>
            <a:ext cx="1181160" cy="17510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114800" y="4724280"/>
            <a:ext cx="1371600" cy="11052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429000" y="1066680"/>
            <a:ext cx="1830240" cy="18306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62120" y="4495680"/>
            <a:ext cx="179856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6" name=""/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3581280" y="1143000"/>
            <a:ext cx="1627200" cy="17715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648320"/>
            <a:ext cx="1801800" cy="18748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733920" y="4952880"/>
            <a:ext cx="1838160" cy="12049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6"/>
          <a:stretch/>
        </p:blipFill>
        <p:spPr>
          <a:xfrm>
            <a:off x="6477120" y="4572000"/>
            <a:ext cx="229860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8" name=""/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"/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14400" y="4419720"/>
            <a:ext cx="1181160" cy="1751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3657600" y="1600200"/>
            <a:ext cx="1371600" cy="1104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010280" y="4495680"/>
            <a:ext cx="1594080" cy="1600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733920" y="4572000"/>
            <a:ext cx="181296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3T20:38:11Z</dcterms:created>
  <dc:creator>Administrator</dc:creator>
  <dc:description/>
  <dc:language>en-US</dc:language>
  <cp:lastModifiedBy>Allison Sylver</cp:lastModifiedBy>
  <dcterms:modified xsi:type="dcterms:W3CDTF">2005-11-21T15:45:59Z</dcterms:modified>
  <cp:revision>30</cp:revision>
  <dc:subject/>
  <dc:title>PowerPoint Presentation</dc:title>
</cp:coreProperties>
</file>