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CDA-C90A-466E-942B-7AE71F44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7CC-F37F-4FFC-A9BA-330A319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1E1-EFEE-4326-8E13-E33AA6BD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BE3-D639-40B8-A553-FCF06FBB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1DA-EDC1-4598-BCA6-6A43A3BC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461-E2AC-4B4B-A187-329A0A41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CDC-D0B0-4DCB-B8F1-8AC958E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499-295C-41B2-A32B-0BF2661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73C-4970-4B6B-8598-82556A86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639-5606-4B41-83CB-46D7553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635-192B-4BD6-8C79-D6BFFB5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928-8A24-4A11-97C6-1DF6CCF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B281-3DAB-4727-87CE-2C37CB43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" Target="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16.wmf"/><Relationship Id="rId7" Type="http://schemas.openxmlformats.org/officeDocument/2006/relationships/slide" Target="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18.wmf"/><Relationship Id="rId6" Type="http://schemas.openxmlformats.org/officeDocument/2006/relationships/slide" Target="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wmf"/><Relationship Id="rId4" Type="http://schemas.openxmlformats.org/officeDocument/2006/relationships/slide" Target="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" Target="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slide" Target="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22.wmf"/><Relationship Id="rId6" Type="http://schemas.openxmlformats.org/officeDocument/2006/relationships/slide" Target="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image" Target="../media/image7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8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image" Target="../media/image10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image" Target="../media/image5.wmf"/><Relationship Id="rId5" Type="http://schemas.openxmlformats.org/officeDocument/2006/relationships/image" Target="../media/image25.wmf"/><Relationship Id="rId6" Type="http://schemas.openxmlformats.org/officeDocument/2006/relationships/slide" Target="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1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4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" Target="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7.xm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wmf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" Target="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3.xml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image" Target="../media/image26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slide" Target="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3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6.xml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image" Target="../media/image26.wmf"/><Relationship Id="rId4" Type="http://schemas.openxmlformats.org/officeDocument/2006/relationships/slide" Target=""/><Relationship Id="rId5" Type="http://schemas.openxmlformats.org/officeDocument/2006/relationships/image" Target="../media/image13.wmf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19.wmf"/><Relationship Id="rId7" Type="http://schemas.openxmlformats.org/officeDocument/2006/relationships/slide" Target="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9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62.xml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24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2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9.wmf"/><Relationship Id="rId7" Type="http://schemas.openxmlformats.org/officeDocument/2006/relationships/slide" Target="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2860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r  Beginning Letters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5053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rs. Keenan’s 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vember, 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4952880"/>
            <a:ext cx="1812960" cy="1505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6072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98920" cy="184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80880"/>
            <a:ext cx="16272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4952880"/>
            <a:ext cx="1876320" cy="1073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00400" y="1434960"/>
            <a:ext cx="2362320" cy="1211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229860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657600" y="4419720"/>
            <a:ext cx="1798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87512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05320" y="4724280"/>
            <a:ext cx="1850760" cy="1319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4572000"/>
            <a:ext cx="1828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267080"/>
            <a:ext cx="1373040" cy="1914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733920" y="1371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298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4495680"/>
            <a:ext cx="1830600" cy="182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2900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262320" y="9144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464832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426708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419720"/>
            <a:ext cx="1830240" cy="18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733920" y="1143000"/>
            <a:ext cx="1260360" cy="184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3520" y="441972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4572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29000" y="1143000"/>
            <a:ext cx="1798560" cy="18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05720" y="4572000"/>
            <a:ext cx="1830240" cy="183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" y="4648320"/>
            <a:ext cx="159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38480" y="4800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57200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183528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49568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77120" y="4800600"/>
            <a:ext cx="2089080" cy="1479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8080" y="5181480"/>
            <a:ext cx="1295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02920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81280" y="4952880"/>
            <a:ext cx="1876680" cy="107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429000" y="1295280"/>
            <a:ext cx="2089080" cy="1479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9320" y="487692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4648320"/>
            <a:ext cx="2057400" cy="1563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05720" y="45720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505320" y="1447920"/>
            <a:ext cx="18381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315200" y="44956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57200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4876920"/>
            <a:ext cx="1295640" cy="1119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809880" y="1066680"/>
            <a:ext cx="1373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494240"/>
            <a:ext cx="1752840" cy="1411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343400"/>
            <a:ext cx="1830600" cy="182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895480" y="1219320"/>
            <a:ext cx="3276720" cy="161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81280" y="4432320"/>
            <a:ext cx="16765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4800600"/>
            <a:ext cx="1876320" cy="1073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4876920"/>
            <a:ext cx="2292120" cy="1020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144792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9880" y="46483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724280"/>
            <a:ext cx="2514600" cy="1438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24480" y="4952880"/>
            <a:ext cx="2514600" cy="1119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4648320"/>
            <a:ext cx="2057400" cy="1563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49568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492768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76720" y="1143000"/>
            <a:ext cx="2298600" cy="185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9880" y="4495680"/>
            <a:ext cx="1260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57200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1333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4876920"/>
            <a:ext cx="2666880" cy="1314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581280" y="1219320"/>
            <a:ext cx="16765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9880" y="4800600"/>
            <a:ext cx="1067040" cy="1031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4267080"/>
            <a:ext cx="1830240" cy="182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81680" y="4267080"/>
            <a:ext cx="1260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4876920"/>
            <a:ext cx="1067040" cy="103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87692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29000" y="464832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572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14800" y="4724280"/>
            <a:ext cx="1371600" cy="1105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1066680"/>
            <a:ext cx="1830240" cy="1830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495680"/>
            <a:ext cx="1798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627200" cy="1771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64832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952880"/>
            <a:ext cx="1838160" cy="12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6477120" y="4572000"/>
            <a:ext cx="2298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441972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657600" y="160020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10280" y="449568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33920" y="457200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20:38:11Z</dcterms:created>
  <dc:creator>Administrator</dc:creator>
  <dc:description/>
  <dc:language>en-US</dc:language>
  <cp:lastModifiedBy>Allison Sylver</cp:lastModifiedBy>
  <dcterms:modified xsi:type="dcterms:W3CDTF">2005-11-21T15:45:59Z</dcterms:modified>
  <cp:revision>30</cp:revision>
  <dc:subject/>
  <dc:title>PowerPoint Presentation</dc:title>
</cp:coreProperties>
</file>