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gif" ContentType="image/gi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F3BD-D3B3-4AE7-B317-0AF4CA86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89A6-D71F-4BC4-A966-5E779552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3ABD-3F82-4B74-A5DA-2DFFE8E3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051B-DD87-46C1-AD8F-2944CFCA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FB45-4408-4029-A4A5-CFE85F7D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72D8-6B57-40EB-A7EE-E6BDCB13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BD70-DA9A-4A8C-839D-98CCB103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B7A8-CB59-4809-B7C4-E77478ED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0016-239F-4363-A208-56613A9E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27D3-63A0-4D1C-BE89-9BD25C14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11C-98C5-4034-9457-F965B3B5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7982-E498-48F4-8B64-6E6040D7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EB5C-A2A9-4445-910B-3635C502D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good readers do when they re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Let’s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38280" y="762120"/>
            <a:ext cx="3600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eading Strategi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652840" y="-25560"/>
            <a:ext cx="292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6640" y="934920"/>
            <a:ext cx="8285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k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 you 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fter you finis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66680" y="3733920"/>
            <a:ext cx="1665360" cy="2057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095880" y="45720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8040" y="4532400"/>
            <a:ext cx="929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08960" y="271440"/>
            <a:ext cx="19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6040" y="1600200"/>
            <a:ext cx="823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I feel about what I re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97840" y="420696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I agree or disagre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2600" y="5105520"/>
            <a:ext cx="805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I learning what I want to k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791320" y="2209680"/>
            <a:ext cx="256680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9760" y="1371600"/>
            <a:ext cx="81039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Use your strategi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o think about what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u are reading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Read to make sens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Read to learn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85280" y="11916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280" y="1185840"/>
            <a:ext cx="483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main id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2040" y="2127240"/>
            <a:ext cx="689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important p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2440" y="3505320"/>
            <a:ext cx="785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ll in your own words what you r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4191120"/>
            <a:ext cx="20829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72440" y="531720"/>
            <a:ext cx="443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 Black"/>
              </a:rPr>
              <a:t>Predict/ Inf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8840" y="2133720"/>
            <a:ext cx="439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nk about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920" y="2971800"/>
            <a:ext cx="65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ve you read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 fa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15680" y="4038480"/>
            <a:ext cx="43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ill happen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44800" y="4876920"/>
            <a:ext cx="68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auth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y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didn’t wr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086600" y="1371600"/>
            <a:ext cx="1109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1371600" cy="1084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319880" y="304920"/>
            <a:ext cx="1379520" cy="160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85800" y="5029200"/>
            <a:ext cx="666720" cy="1346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1523880" cy="1409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7467480" y="5257800"/>
            <a:ext cx="1257480" cy="1165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53560" y="1981080"/>
            <a:ext cx="5746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you come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word you don’t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33360" y="457200"/>
            <a:ext cx="469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ics/De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2286000" cy="164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022640" y="477720"/>
            <a:ext cx="425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 carefully 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068560" y="3124080"/>
            <a:ext cx="6813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ok for parts you know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nk about the sound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r the letter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22920" y="685800"/>
            <a:ext cx="653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end the sounds you kn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81240" y="20019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06560" y="195120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e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6920" y="19512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06600" y="1874880"/>
            <a:ext cx="68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Arial"/>
              </a:rPr>
              <a:t>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61360" y="3780000"/>
            <a:ext cx="204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an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880" y="1066680"/>
            <a:ext cx="750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this a word I know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2489040"/>
            <a:ext cx="658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oes it make sens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505320" y="3962520"/>
            <a:ext cx="1566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601640" y="1295280"/>
            <a:ext cx="62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else can I tr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71800" y="2514600"/>
            <a:ext cx="2211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438640" y="380880"/>
            <a:ext cx="312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itor/Clarif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6320" y="59688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20280" y="92160"/>
            <a:ext cx="929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205740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es what I’m reading 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57913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I learning what I want to lea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45240" y="3124080"/>
            <a:ext cx="12826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6440" y="3048120"/>
            <a:ext cx="21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ns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85800" y="660240"/>
            <a:ext cx="41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f it doesn’t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54080" y="1652760"/>
            <a:ext cx="535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Read it again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2590920" cy="244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178160" y="2871720"/>
            <a:ext cx="474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Read ahea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81600" y="5327640"/>
            <a:ext cx="413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Use the pictures.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7:32:24Z</dcterms:created>
  <dc:creator>Myrtie Schilling</dc:creator>
  <dc:description/>
  <dc:language>en-US</dc:language>
  <cp:lastModifiedBy>Jefferson-Lewis BOCES</cp:lastModifiedBy>
  <dcterms:modified xsi:type="dcterms:W3CDTF">2006-05-02T13:44:36Z</dcterms:modified>
  <cp:revision>8</cp:revision>
  <dc:subject/>
  <dc:title>What do good readers do when they read?</dc:title>
</cp:coreProperties>
</file>