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BE9-7527-4A2A-B902-1FB538C3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F02-F36E-4A8D-A264-9DDED340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6D33-8953-45AE-94E0-C80C1BA1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2CD-54EB-4167-AD2B-B2CDA43E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AD5-B745-4A7E-AECE-6F64AC87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7CC-7E70-45FD-B180-E92DD30B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D69-C04C-4A71-85DD-9FC3B621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380-1E72-41F1-841B-75CC903A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4D5-4F0F-43AC-A750-CBEF5FAB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EAD-CABE-40D9-8645-56B4AADE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E48-2092-4110-BD8D-6B977493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662-AD0F-4E6E-8720-9B7050D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FF13-454F-4291-923A-93E901458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good readers do when they r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Let’s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38280" y="762120"/>
            <a:ext cx="360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ading Strategi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52840" y="-2556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640" y="934920"/>
            <a:ext cx="828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 you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fter you finis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16653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95880" y="45720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8040" y="453240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08960" y="271440"/>
            <a:ext cx="19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040" y="1600200"/>
            <a:ext cx="82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feel about what I r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97840" y="420696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I agree or disagr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2600" y="5105520"/>
            <a:ext cx="80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I learning what I want to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5668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9760" y="1371600"/>
            <a:ext cx="81039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Use your strategi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o think about wha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you are reading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ead to make sens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Read to lear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85280" y="11916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1185840"/>
            <a:ext cx="48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main id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2040" y="2127240"/>
            <a:ext cx="68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important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2440" y="3505320"/>
            <a:ext cx="78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l in your own words what you 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20829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72440" y="531720"/>
            <a:ext cx="443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 Black"/>
              </a:rPr>
              <a:t>Predict/ Inf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8840" y="2133720"/>
            <a:ext cx="439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k about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920" y="2971800"/>
            <a:ext cx="65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ve you rea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 f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5680" y="4038480"/>
            <a:ext cx="43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happen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4800" y="4876920"/>
            <a:ext cx="68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uth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y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didn’t 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86600" y="1371600"/>
            <a:ext cx="110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1371600" cy="108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19880" y="304920"/>
            <a:ext cx="137952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5800" y="5029200"/>
            <a:ext cx="666720" cy="1346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1257480" cy="1165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3560" y="1981080"/>
            <a:ext cx="5746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you come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word you don’t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360" y="457200"/>
            <a:ext cx="469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nics/De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2286000" cy="164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22640" y="477720"/>
            <a:ext cx="425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carefully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68560" y="3124080"/>
            <a:ext cx="681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ook for parts you kn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nk about the sound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r the lett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22920" y="685800"/>
            <a:ext cx="65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end the sounds you know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81240" y="20019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06560" y="19512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920" y="19512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06600" y="1874880"/>
            <a:ext cx="68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Arial"/>
              </a:rPr>
              <a:t>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61360" y="3780000"/>
            <a:ext cx="204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anu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880" y="1066680"/>
            <a:ext cx="750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this a word I kn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2489040"/>
            <a:ext cx="65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es it make sens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05320" y="3962520"/>
            <a:ext cx="156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01640" y="129528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else can I tr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221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38640" y="380880"/>
            <a:ext cx="31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/Clari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6320" y="59688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20280" y="92160"/>
            <a:ext cx="929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0574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 what I’m reading 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57913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I learning what I want to lea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45240" y="3124080"/>
            <a:ext cx="12826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440" y="3048120"/>
            <a:ext cx="21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n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85800" y="660240"/>
            <a:ext cx="41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f it doesn’t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54080" y="1652760"/>
            <a:ext cx="535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Read it agai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2590920" cy="244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78160" y="287172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Read ahe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81600" y="5327640"/>
            <a:ext cx="41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Use the pictures.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7:32:24Z</dcterms:created>
  <dc:creator>Myrtie Schilling</dc:creator>
  <dc:description/>
  <dc:language>en-US</dc:language>
  <cp:lastModifiedBy>Jefferson-Lewis BOCES</cp:lastModifiedBy>
  <dcterms:modified xsi:type="dcterms:W3CDTF">2006-05-02T13:44:36Z</dcterms:modified>
  <cp:revision>8</cp:revision>
  <dc:subject/>
  <dc:title>What do good readers do when they read?</dc:title>
</cp:coreProperties>
</file>