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9.gif" ContentType="image/gi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4742-ADC2-4628-B5AD-AB2967F6F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7912-9399-4D50-BF69-7E40AAE6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4937-033E-48BB-B24A-D37DDFF68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F928-6B2D-464E-8ADA-CA3F95EAD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0464-A75E-4FE5-965E-7013D90D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471D-F7EA-4DB6-8AEA-A52E07B5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7687-76CF-4BB7-80C1-DF98983C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A473-260B-466D-AF21-D2E2CA9A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5C1F-DA03-47DC-A84D-B2EBD10F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00D7-B71E-4214-866A-54922C3E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5A63-06DB-4EB3-8F03-02941A48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835F-4B69-4ECA-8015-AD7D16DE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AC95-F1C3-4B76-A9E0-565C05CCC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good readers do when they rea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Let’s prac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438280" y="762120"/>
            <a:ext cx="3600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eading Strategie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652840" y="-25560"/>
            <a:ext cx="292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6640" y="934920"/>
            <a:ext cx="8285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k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s you 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fter you finis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066680" y="3733920"/>
            <a:ext cx="1665360" cy="2057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095880" y="457200"/>
            <a:ext cx="2438640" cy="18288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098040" y="4532400"/>
            <a:ext cx="9291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08960" y="271440"/>
            <a:ext cx="196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6040" y="1600200"/>
            <a:ext cx="823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I feel about what I rea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97840" y="4206960"/>
            <a:ext cx="45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I agree or disagre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2600" y="5105520"/>
            <a:ext cx="805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I learning what I want to kn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791320" y="2209680"/>
            <a:ext cx="256680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9760" y="1371600"/>
            <a:ext cx="81039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Use your strategi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o think about what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u are reading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Read to make sense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Read to learn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85280" y="119160"/>
            <a:ext cx="24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46280" y="1185840"/>
            <a:ext cx="483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the main ide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2040" y="2127240"/>
            <a:ext cx="689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important pa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2440" y="3505320"/>
            <a:ext cx="785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ll in your own words what you r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066680" y="4191120"/>
            <a:ext cx="20829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72440" y="531720"/>
            <a:ext cx="443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 Black"/>
              </a:rPr>
              <a:t>Predict/ Inf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8840" y="2133720"/>
            <a:ext cx="439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nk about th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920" y="2971800"/>
            <a:ext cx="652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ve you read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 fa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15680" y="4038480"/>
            <a:ext cx="437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ill happen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ex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44800" y="4876920"/>
            <a:ext cx="68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auth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y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t didn’t wri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086600" y="1371600"/>
            <a:ext cx="11095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1371600" cy="1084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319880" y="304920"/>
            <a:ext cx="1379520" cy="1600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85800" y="5029200"/>
            <a:ext cx="666720" cy="1346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733920" y="5105520"/>
            <a:ext cx="1523880" cy="1409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7467480" y="5257800"/>
            <a:ext cx="1257480" cy="1165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53560" y="1981080"/>
            <a:ext cx="5746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you come 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word you don’t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33360" y="457200"/>
            <a:ext cx="469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nics/Deco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2286000" cy="1646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022640" y="477720"/>
            <a:ext cx="425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k carefully 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or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04920" y="2819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068560" y="3124080"/>
            <a:ext cx="6813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ook for parts you know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nk about the sound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r the letter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22920" y="685800"/>
            <a:ext cx="653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end the sounds you know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81240" y="200196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06560" y="195120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e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86920" y="19512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06600" y="1874880"/>
            <a:ext cx="68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00"/>
                </a:solidFill>
                <a:latin typeface="Arial"/>
              </a:rPr>
              <a:t>u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61360" y="3780000"/>
            <a:ext cx="204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anu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3880" y="1066680"/>
            <a:ext cx="750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s this a word I know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2489040"/>
            <a:ext cx="658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oes it make sens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505320" y="3962520"/>
            <a:ext cx="1566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601640" y="1295280"/>
            <a:ext cx="623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else can I tr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971800" y="2514600"/>
            <a:ext cx="2211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438640" y="380880"/>
            <a:ext cx="312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itor/Clarif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76320" y="59688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20280" y="92160"/>
            <a:ext cx="9291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205740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es what I’m reading 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579132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I learning what I want to lear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45240" y="3124080"/>
            <a:ext cx="12826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6440" y="3048120"/>
            <a:ext cx="21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ns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585800" y="660240"/>
            <a:ext cx="41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f it doesn’t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54080" y="1652760"/>
            <a:ext cx="5354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"/>
              </a:rPr>
              <a:t>Read it again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143000" y="2743200"/>
            <a:ext cx="2590920" cy="2446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178160" y="2871720"/>
            <a:ext cx="474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Arial"/>
              </a:rPr>
              <a:t>Read ahea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81600" y="5327640"/>
            <a:ext cx="413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Use the pictures.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2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17:32:24Z</dcterms:created>
  <dc:creator>Myrtie Schilling</dc:creator>
  <dc:description/>
  <dc:language>en-US</dc:language>
  <cp:lastModifiedBy>Jefferson-Lewis BOCES</cp:lastModifiedBy>
  <dcterms:modified xsi:type="dcterms:W3CDTF">2006-05-02T13:44:36Z</dcterms:modified>
  <cp:revision>8</cp:revision>
  <dc:subject/>
  <dc:title>What do good readers do when they read?</dc:title>
</cp:coreProperties>
</file>