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media/ricoche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CB9-4DF9-4041-ACEF-333BF8B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A9C-A587-4881-884A-446CAE5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DAB-B3A6-4246-BEA8-23BAEA7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84C-28EC-4017-A6DE-6792A363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9CB-1127-4071-BE38-944EB32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1CD-2392-4F3F-88B7-0FA895A7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B40-0C97-4EA0-9432-15C4011C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8CE-BFC4-47FF-902C-FF2C482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85B-B276-4FB2-9681-2B127281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1DC-34CA-40A7-B799-505AFDB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274-84D4-499C-B1D7-9FC8A0D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D73-EA11-4205-8897-921D7C3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C3D-9871-4590-8366-0F90F6943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explode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905120"/>
            <a:ext cx="72388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Kindergart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igh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05720" y="486900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2920" y="5335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510552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0" y="2286000"/>
            <a:ext cx="2133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76920" y="2286000"/>
            <a:ext cx="171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447920" y="2209680"/>
            <a:ext cx="2590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14800" y="2209680"/>
            <a:ext cx="180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1600200"/>
            <a:ext cx="236232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09680" y="1371600"/>
            <a:ext cx="2590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29200" y="2971800"/>
            <a:ext cx="2133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9320" y="1600200"/>
            <a:ext cx="19047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05320" y="3124080"/>
            <a:ext cx="141444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3200400"/>
            <a:ext cx="160020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0" y="3200400"/>
            <a:ext cx="12952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81280" y="2362320"/>
            <a:ext cx="1067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76920" y="1371600"/>
            <a:ext cx="2361960" cy="37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19520" y="914400"/>
            <a:ext cx="14475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00600" y="1905120"/>
            <a:ext cx="2590920" cy="34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38280" y="1066680"/>
            <a:ext cx="1600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2209680"/>
            <a:ext cx="259092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1600200"/>
            <a:ext cx="5715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00200" y="1523880"/>
            <a:ext cx="1066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4080" y="2666880"/>
            <a:ext cx="990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91120" y="1752480"/>
            <a:ext cx="198108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2819520"/>
            <a:ext cx="1828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57600" y="1981080"/>
            <a:ext cx="20574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36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57400" y="1066680"/>
            <a:ext cx="5410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19320" y="1600200"/>
            <a:ext cx="358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81480" y="2057400"/>
            <a:ext cx="259092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1600200"/>
            <a:ext cx="3429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520" y="1981080"/>
            <a:ext cx="251460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28800" y="1447920"/>
            <a:ext cx="2590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29200" y="1676520"/>
            <a:ext cx="2209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1676520"/>
            <a:ext cx="2133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1981080"/>
            <a:ext cx="23619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400800" y="457200"/>
            <a:ext cx="1828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28800" y="144792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3400" y="1447920"/>
            <a:ext cx="2481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1981080"/>
            <a:ext cx="2209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038480" y="2209680"/>
            <a:ext cx="182880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77120" y="762120"/>
            <a:ext cx="1981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28800" y="1523880"/>
            <a:ext cx="2286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1523880"/>
            <a:ext cx="320040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1905120"/>
            <a:ext cx="1904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8120" y="2133720"/>
            <a:ext cx="20574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1371600"/>
            <a:ext cx="9907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81680" y="762120"/>
            <a:ext cx="1676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1981080"/>
            <a:ext cx="1447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86200" y="685800"/>
            <a:ext cx="2286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2133720"/>
            <a:ext cx="16002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14400" y="121932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81280" y="1295280"/>
            <a:ext cx="23623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24480" y="2362320"/>
            <a:ext cx="1752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66680" y="2286000"/>
            <a:ext cx="2133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2680" y="2362320"/>
            <a:ext cx="22860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5000" y="990720"/>
            <a:ext cx="2590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1523880"/>
            <a:ext cx="28195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286000"/>
            <a:ext cx="1828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1600200"/>
            <a:ext cx="2286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81280" y="1600200"/>
            <a:ext cx="2286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19920" y="1676520"/>
            <a:ext cx="1904760" cy="22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19320" y="1447920"/>
            <a:ext cx="2209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57600" y="15238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867280" y="1600200"/>
            <a:ext cx="1676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9480" y="1523880"/>
            <a:ext cx="2438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52680" y="1600200"/>
            <a:ext cx="2286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91320" y="60948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2133720"/>
            <a:ext cx="990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05120" y="2209680"/>
            <a:ext cx="9903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2209680"/>
            <a:ext cx="1143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2286000"/>
            <a:ext cx="99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43600" y="2209680"/>
            <a:ext cx="99072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91520" y="2209680"/>
            <a:ext cx="106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04920" y="1905120"/>
            <a:ext cx="1752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680" y="2057400"/>
            <a:ext cx="1371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33920" y="838080"/>
            <a:ext cx="144756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257800" y="2286000"/>
            <a:ext cx="14479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0" y="2438280"/>
            <a:ext cx="1905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95280" y="1600200"/>
            <a:ext cx="1371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95480" y="1676520"/>
            <a:ext cx="132876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67080" y="1752480"/>
            <a:ext cx="25146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34320" y="1828800"/>
            <a:ext cx="1447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114300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8120" y="1143000"/>
            <a:ext cx="6094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9880" y="2743200"/>
            <a:ext cx="18716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2819520"/>
            <a:ext cx="2057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2133720"/>
            <a:ext cx="14475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438280"/>
            <a:ext cx="1295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9880" y="2438280"/>
            <a:ext cx="1295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81480" y="2209680"/>
            <a:ext cx="1295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705720" y="1295280"/>
            <a:ext cx="380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238880" y="2286000"/>
            <a:ext cx="1143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828800" y="1447920"/>
            <a:ext cx="2819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00600" y="160020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3504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24280" y="762120"/>
            <a:ext cx="3538800" cy="45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84440" y="457200"/>
            <a:ext cx="3508560" cy="586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733920" y="1447920"/>
            <a:ext cx="1066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09480" y="380880"/>
            <a:ext cx="7772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52480" y="4876920"/>
            <a:ext cx="6172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GREAT JOB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2197080" cy="293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2438280"/>
            <a:ext cx="2438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2438280"/>
            <a:ext cx="182880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67280" y="2362320"/>
            <a:ext cx="1828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295280"/>
            <a:ext cx="2514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9880" y="2590920"/>
            <a:ext cx="221004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oper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990720"/>
            <a:ext cx="25146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981080"/>
            <a:ext cx="2743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81280" y="2057400"/>
            <a:ext cx="2438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00800" y="2133720"/>
            <a:ext cx="2362320" cy="24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143000"/>
            <a:ext cx="2667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2819520"/>
            <a:ext cx="202428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43600" y="152388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1523880"/>
            <a:ext cx="2133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62520" y="2438280"/>
            <a:ext cx="838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1676520"/>
            <a:ext cx="19814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0:59:37Z</dcterms:created>
  <dc:creator>User</dc:creator>
  <dc:description/>
  <dc:language>en-US</dc:language>
  <cp:lastModifiedBy>Jefferson-Lewis BOCES</cp:lastModifiedBy>
  <dcterms:modified xsi:type="dcterms:W3CDTF">2006-06-16T14:25:39Z</dcterms:modified>
  <cp:revision>20</cp:revision>
  <dc:subject/>
  <dc:title>PowerPoint Presentation</dc:title>
</cp:coreProperties>
</file>