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glass.wav" ContentType="audio/x-wav"/>
  <Override PartName="/ppt/media/image4.wmf" ContentType="image/x-wmf"/>
  <Override PartName="/ppt/media/image2.wmf" ContentType="image/x-wmf"/>
  <Override PartName="/ppt/media/image3.wmf" ContentType="image/x-wmf"/>
  <Override PartName="/ppt/media/chimes.wav" ContentType="audio/x-wav"/>
  <Override PartName="/ppt/media/image5.wmf" ContentType="image/x-wmf"/>
  <Override PartName="/ppt/media/explode.wav" ContentType="audio/x-wav"/>
  <Override PartName="/ppt/media/image6.wmf" ContentType="image/x-wmf"/>
  <Override PartName="/ppt/media/ricochet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67F9-6A3E-4B1B-AA0F-79FBC62C4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887C-4CB5-4E56-9177-1B8192C94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8CD7-4114-4328-B966-99442828B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60F6-D14A-482F-9CB7-537AA5BF6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B40B-DFF5-4FC6-BE1C-191BCCEE1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6C26-D87B-463F-91D4-DAD6F12B0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4163-3D14-4574-9C3B-93FF6355F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4C5E-EC1F-4AD9-81A6-7E8FA1D0F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EBEB-4DE0-4C61-A578-86F6F1CB9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F7BC-0738-4C0F-85D7-8C2CA6880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F972-89BD-4A91-847D-EDE1CA61A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FA77-02D4-4189-BBFD-DDD9581B0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8C18E-9856-4CA5-B96E-6CA70BCCAE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audio" Target="../media/glass.wav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audio" Target="../media/explode.wav"/><Relationship Id="rId4" Type="http://schemas.openxmlformats.org/officeDocument/2006/relationships/audio" Target="../media/ricochet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14400" y="1905120"/>
            <a:ext cx="7238880" cy="22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Kindergarten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Sight Word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705720" y="4869000"/>
            <a:ext cx="1523880" cy="1476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7162920" y="533520"/>
            <a:ext cx="1143000" cy="1135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04920" y="0"/>
            <a:ext cx="1523880" cy="1476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380880" y="5105520"/>
            <a:ext cx="1143000" cy="113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2286000" y="2286000"/>
            <a:ext cx="213372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876920" y="2286000"/>
            <a:ext cx="17190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1447920" y="2209680"/>
            <a:ext cx="259056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114800" y="2209680"/>
            <a:ext cx="180036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715000" y="1600200"/>
            <a:ext cx="2362320" cy="25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2209680" y="1371600"/>
            <a:ext cx="259092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h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029200" y="2971800"/>
            <a:ext cx="213372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e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1219320" y="1600200"/>
            <a:ext cx="190476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h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505320" y="3124080"/>
            <a:ext cx="1414440" cy="200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105520" y="3200400"/>
            <a:ext cx="1600200" cy="19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v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0" y="3200400"/>
            <a:ext cx="1295280" cy="19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3581280" y="2362320"/>
            <a:ext cx="106704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876920" y="1371600"/>
            <a:ext cx="2361960" cy="376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2819520" y="914400"/>
            <a:ext cx="144756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800600" y="1905120"/>
            <a:ext cx="2590920" cy="344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2438280" y="1066680"/>
            <a:ext cx="160020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495680" y="2209680"/>
            <a:ext cx="2590920" cy="314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1219320" y="1600200"/>
            <a:ext cx="57150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1600200" y="1523880"/>
            <a:ext cx="106668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124080" y="2666880"/>
            <a:ext cx="990720" cy="245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191120" y="1752480"/>
            <a:ext cx="1981080" cy="330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324480" y="2819520"/>
            <a:ext cx="182880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57200" y="1752480"/>
            <a:ext cx="289548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657600" y="1981080"/>
            <a:ext cx="2057400" cy="299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943600" y="1752480"/>
            <a:ext cx="289548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2057400" y="1066680"/>
            <a:ext cx="5410080" cy="449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1219320" y="1600200"/>
            <a:ext cx="358128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181480" y="2057400"/>
            <a:ext cx="2590920" cy="368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219320" y="1600200"/>
            <a:ext cx="34290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105520" y="1981080"/>
            <a:ext cx="2514600" cy="28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828800" y="1447920"/>
            <a:ext cx="259092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029200" y="1676520"/>
            <a:ext cx="220968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295280" y="1676520"/>
            <a:ext cx="213372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962520" y="1981080"/>
            <a:ext cx="2361960" cy="289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400800" y="457200"/>
            <a:ext cx="182880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1828800" y="1447920"/>
            <a:ext cx="22860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343400" y="1447920"/>
            <a:ext cx="248112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447920" y="1981080"/>
            <a:ext cx="220968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p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038480" y="2209680"/>
            <a:ext cx="1828800" cy="23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u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477120" y="762120"/>
            <a:ext cx="198108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828800" y="1523880"/>
            <a:ext cx="2286000" cy="358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419720" y="1523880"/>
            <a:ext cx="3200400" cy="337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e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762120" y="1905120"/>
            <a:ext cx="190476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8120" y="2133720"/>
            <a:ext cx="205740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486400" y="1371600"/>
            <a:ext cx="99072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781680" y="762120"/>
            <a:ext cx="1676520" cy="41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828800" y="1981080"/>
            <a:ext cx="1447920" cy="312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886200" y="685800"/>
            <a:ext cx="228600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h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477120" y="2133720"/>
            <a:ext cx="160020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914400" y="1219320"/>
            <a:ext cx="228600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581280" y="1295280"/>
            <a:ext cx="2362320" cy="381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h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324480" y="2362320"/>
            <a:ext cx="175284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066680" y="2286000"/>
            <a:ext cx="213372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48" name=""/>
          <p:cNvSpPr/>
          <p:nvPr/>
        </p:nvSpPr>
        <p:spPr>
          <a:xfrm>
            <a:off x="3809880" y="182880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352680" y="2362320"/>
            <a:ext cx="2286000" cy="32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n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715000" y="990720"/>
            <a:ext cx="259092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d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828800" y="1523880"/>
            <a:ext cx="2819520" cy="358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800600" y="2286000"/>
            <a:ext cx="1828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143000" y="1600200"/>
            <a:ext cx="22860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81280" y="1600200"/>
            <a:ext cx="22860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019920" y="1676520"/>
            <a:ext cx="1904760" cy="22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u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4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4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219320" y="1447920"/>
            <a:ext cx="220968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657600" y="1523880"/>
            <a:ext cx="20574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867280" y="1600200"/>
            <a:ext cx="167652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609480" y="1523880"/>
            <a:ext cx="243864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352680" y="1600200"/>
            <a:ext cx="228600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791320" y="609480"/>
            <a:ext cx="274320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609480" y="2133720"/>
            <a:ext cx="9907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905120" y="2209680"/>
            <a:ext cx="99036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124080" y="2209680"/>
            <a:ext cx="114300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648320" y="2286000"/>
            <a:ext cx="99036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943600" y="2209680"/>
            <a:ext cx="990720" cy="25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7391520" y="2209680"/>
            <a:ext cx="106668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04920" y="1905120"/>
            <a:ext cx="175248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209680" y="2057400"/>
            <a:ext cx="13716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733920" y="838080"/>
            <a:ext cx="1447560" cy="299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l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257800" y="2286000"/>
            <a:ext cx="144792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0" y="2438280"/>
            <a:ext cx="19051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w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295280" y="1600200"/>
            <a:ext cx="137160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895480" y="1676520"/>
            <a:ext cx="1328760" cy="184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267080" y="1752480"/>
            <a:ext cx="2514600" cy="16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e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934320" y="1828800"/>
            <a:ext cx="14475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762120" y="1143000"/>
            <a:ext cx="228600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b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8120" y="1143000"/>
            <a:ext cx="60948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809880" y="2743200"/>
            <a:ext cx="1871640" cy="21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u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943600" y="2819520"/>
            <a:ext cx="20574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762120" y="2133720"/>
            <a:ext cx="1447560" cy="35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p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286000" y="2438280"/>
            <a:ext cx="12952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u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809880" y="2438280"/>
            <a:ext cx="129564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181480" y="2209680"/>
            <a:ext cx="129564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p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705720" y="1295280"/>
            <a:ext cx="3808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7238880" y="2286000"/>
            <a:ext cx="11430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6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1828800" y="1447920"/>
            <a:ext cx="281952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w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800600" y="1600200"/>
            <a:ext cx="289548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219320" y="2666880"/>
            <a:ext cx="350496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724280" y="762120"/>
            <a:ext cx="3538800" cy="458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584440" y="457200"/>
            <a:ext cx="3508560" cy="58672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>
            <a:off x="3733920" y="1447920"/>
            <a:ext cx="106668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ol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609480" y="380880"/>
            <a:ext cx="77724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You did it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752480" y="4876920"/>
            <a:ext cx="6172200" cy="16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GREAT JOB!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2197080" cy="29354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4724280" y="1523880"/>
            <a:ext cx="3176640" cy="346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066680" y="2438280"/>
            <a:ext cx="243864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886200" y="2438280"/>
            <a:ext cx="1828800" cy="24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867280" y="2362320"/>
            <a:ext cx="182880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762120" y="1295280"/>
            <a:ext cx="251460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b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809880" y="2590920"/>
            <a:ext cx="2210040" cy="24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oper Black"/>
              </a:rPr>
              <a:t>u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oper Black"/>
              <a:ea typeface="Cooper Black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248520" y="990720"/>
            <a:ext cx="2514600" cy="41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533520" y="1981080"/>
            <a:ext cx="27432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c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581280" y="2057400"/>
            <a:ext cx="243864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400800" y="2133720"/>
            <a:ext cx="2362320" cy="246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09480" y="1143000"/>
            <a:ext cx="266724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581280" y="2819520"/>
            <a:ext cx="2024280" cy="22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943600" y="1523880"/>
            <a:ext cx="22860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066680" y="1523880"/>
            <a:ext cx="213372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962520" y="2438280"/>
            <a:ext cx="838080" cy="24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181480" y="1676520"/>
            <a:ext cx="198144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31T20:59:37Z</dcterms:created>
  <dc:creator>User</dc:creator>
  <dc:description/>
  <dc:language>en-US</dc:language>
  <cp:lastModifiedBy>Jefferson-Lewis BOCES</cp:lastModifiedBy>
  <dcterms:modified xsi:type="dcterms:W3CDTF">2006-06-16T14:25:39Z</dcterms:modified>
  <cp:revision>20</cp:revision>
  <dc:subject/>
  <dc:title>PowerPoint Presentation</dc:title>
</cp:coreProperties>
</file>