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37B29-E830-435D-B5A7-5978D6612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C458E-BCA1-4652-844F-AD6981B03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4AE5D-13F1-4ECD-A2CB-B1D4B35F2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BD9DA-1FA9-4A15-8063-D00A6FE21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5B13C-C2CD-494B-845D-D15BA6493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12871-05A7-4675-9140-135A7ACB4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CD329-0A5A-435C-A554-938ADE07F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DE13D-BDCF-42B2-B529-74562DD36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3F4EC-9627-469E-9D6C-B94C97EA3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C8023-FFE1-454C-B5CE-1D3DCF6A3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571BF-6ADC-4375-895D-944144DC3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09DD9-A155-4BE5-9593-8876E4ECB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F21FF-D3F4-48D7-9E33-CE58AFE4AB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362320" y="1447920"/>
            <a:ext cx="495288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High Frequency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Word List 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447920" y="1784520"/>
            <a:ext cx="6858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438280" y="1752480"/>
            <a:ext cx="5335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276720" y="1676520"/>
            <a:ext cx="5331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114800" y="1752480"/>
            <a:ext cx="5335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952880" y="1752480"/>
            <a:ext cx="6098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u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791320" y="1752480"/>
            <a:ext cx="6858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781680" y="1752480"/>
            <a:ext cx="6858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886200" y="1905120"/>
            <a:ext cx="4572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3505320" y="1981080"/>
            <a:ext cx="6858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419720" y="1981080"/>
            <a:ext cx="990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4038480" y="2558880"/>
            <a:ext cx="6098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572000" y="2558880"/>
            <a:ext cx="609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3581280" y="2590920"/>
            <a:ext cx="6098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962520" y="2590920"/>
            <a:ext cx="609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590920"/>
            <a:ext cx="7621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m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952880" y="2603520"/>
            <a:ext cx="533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9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3505320" y="1828800"/>
            <a:ext cx="6094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95680" y="1828800"/>
            <a:ext cx="5335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429000" y="1905120"/>
            <a:ext cx="5335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1905120"/>
            <a:ext cx="3808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l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724280" y="1905120"/>
            <a:ext cx="990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l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0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352680" y="2057400"/>
            <a:ext cx="5335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886200" y="2193840"/>
            <a:ext cx="990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800600" y="2133720"/>
            <a:ext cx="13716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09680" y="1981080"/>
            <a:ext cx="13716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200400" y="1981080"/>
            <a:ext cx="11430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038480" y="1981080"/>
            <a:ext cx="10670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648320" y="1981080"/>
            <a:ext cx="5331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86400" y="1981080"/>
            <a:ext cx="990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324480" y="1981080"/>
            <a:ext cx="12193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3429000" y="1981080"/>
            <a:ext cx="11430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495680" y="1981080"/>
            <a:ext cx="19051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m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657600" y="1981080"/>
            <a:ext cx="6094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572000" y="1981080"/>
            <a:ext cx="6094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2895480" y="1981080"/>
            <a:ext cx="6858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809880" y="1981080"/>
            <a:ext cx="9144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724280" y="1981080"/>
            <a:ext cx="10670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1981080"/>
            <a:ext cx="18288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k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2362320" y="1752480"/>
            <a:ext cx="14475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429000" y="1752480"/>
            <a:ext cx="32004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ee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486400" y="1752480"/>
            <a:ext cx="13716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2209680" y="1905120"/>
            <a:ext cx="24386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124080" y="1905120"/>
            <a:ext cx="24386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14800" y="1905120"/>
            <a:ext cx="24382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u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105520" y="1905120"/>
            <a:ext cx="18288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l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486400" y="1905120"/>
            <a:ext cx="24382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2743200" y="1828800"/>
            <a:ext cx="12952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733920" y="1828800"/>
            <a:ext cx="9144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572000" y="1889280"/>
            <a:ext cx="9144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410080" y="1905120"/>
            <a:ext cx="20574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‘</a:t>
            </a: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2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3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3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3505320" y="1828800"/>
            <a:ext cx="12189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419720" y="1828800"/>
            <a:ext cx="11430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3048120" y="1905120"/>
            <a:ext cx="11430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1812960"/>
            <a:ext cx="12193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952880" y="1828800"/>
            <a:ext cx="19814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124080" y="1676520"/>
            <a:ext cx="12193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886200" y="1752480"/>
            <a:ext cx="10666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648320" y="1660680"/>
            <a:ext cx="12189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62720" y="1752480"/>
            <a:ext cx="20574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m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6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3276720" y="1676520"/>
            <a:ext cx="990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267080" y="1736640"/>
            <a:ext cx="10670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952880" y="1752480"/>
            <a:ext cx="12956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3124080" y="1736640"/>
            <a:ext cx="8715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1736640"/>
            <a:ext cx="12952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105520" y="1752480"/>
            <a:ext cx="7617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3581280" y="1600200"/>
            <a:ext cx="8384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0" y="1600200"/>
            <a:ext cx="15238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429000" y="1981080"/>
            <a:ext cx="5335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343400" y="1981080"/>
            <a:ext cx="5335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257800" y="1981080"/>
            <a:ext cx="6094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5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429000" y="1736640"/>
            <a:ext cx="6094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495680" y="1736640"/>
            <a:ext cx="7621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3048120" y="1784520"/>
            <a:ext cx="6094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1784520"/>
            <a:ext cx="13716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876920" y="1752480"/>
            <a:ext cx="14475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9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0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3657600" y="1905120"/>
            <a:ext cx="9144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648320" y="1905120"/>
            <a:ext cx="11430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2743200" y="1784520"/>
            <a:ext cx="11430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962520" y="1752480"/>
            <a:ext cx="7617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876920" y="1784520"/>
            <a:ext cx="12952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5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2971800" y="1828800"/>
            <a:ext cx="11430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114800" y="1828800"/>
            <a:ext cx="8380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u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029200" y="1828800"/>
            <a:ext cx="13716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3352680" y="1784520"/>
            <a:ext cx="12193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267080" y="1784520"/>
            <a:ext cx="7621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0600" y="1752480"/>
            <a:ext cx="12193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E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14600" y="1295280"/>
            <a:ext cx="46483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omic Sans MS"/>
              </a:rPr>
              <a:t>The End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200400" y="1981080"/>
            <a:ext cx="6094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114800" y="1981080"/>
            <a:ext cx="5335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952880" y="2025720"/>
            <a:ext cx="10670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666880" y="2057400"/>
            <a:ext cx="5335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81280" y="2057400"/>
            <a:ext cx="5335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419720" y="2057400"/>
            <a:ext cx="9144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m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715000" y="2057400"/>
            <a:ext cx="10666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895480" y="1828800"/>
            <a:ext cx="5335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733920" y="1828800"/>
            <a:ext cx="5331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0" y="1873080"/>
            <a:ext cx="3808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952880" y="1873080"/>
            <a:ext cx="5335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791320" y="1828800"/>
            <a:ext cx="6094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6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6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7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2819520" y="1905120"/>
            <a:ext cx="6094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9880" y="1905120"/>
            <a:ext cx="5335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648320" y="1905120"/>
            <a:ext cx="5331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v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410080" y="1905120"/>
            <a:ext cx="6098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200400" y="1981080"/>
            <a:ext cx="9144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267080" y="1981080"/>
            <a:ext cx="3812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0600" y="1981080"/>
            <a:ext cx="990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743200" y="1981080"/>
            <a:ext cx="7621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581280" y="1981080"/>
            <a:ext cx="7621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w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981080"/>
            <a:ext cx="6094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638680" y="2025720"/>
            <a:ext cx="10670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6T16:06:39Z</dcterms:created>
  <dc:creator> </dc:creator>
  <dc:description/>
  <dc:language>en-US</dc:language>
  <cp:lastModifiedBy>Jefferson-Lewis BOCES</cp:lastModifiedBy>
  <dcterms:modified xsi:type="dcterms:W3CDTF">2006-06-16T14:25:51Z</dcterms:modified>
  <cp:revision>7</cp:revision>
  <dc:subject/>
  <dc:title>PowerPoint Presentation</dc:title>
</cp:coreProperties>
</file>