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07A-CC40-4F1B-8B59-1141B3BE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F7E-373F-4A6F-8DEF-9320C5CA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E54-5468-449B-92EE-B058E132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3CB-6D42-4065-8102-5B3E6D15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2B2-0F93-4CC0-B746-7BA7D628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7F7-9EA8-4ADA-99B0-BD3A68B5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D5E-511C-45DF-BB01-30C502AD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6F8-7E87-44FD-BCB8-11C9F9B7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8B3-A9D2-4D78-B738-2848E1EF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FFD-C06D-41B1-B212-7742DFD3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D0C-C9AF-49E2-BA06-4EE50897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3EE-82ED-4D9D-B3D1-8FA4509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2FA3-1442-465F-965E-C1F026CF4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1447920"/>
            <a:ext cx="4952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igh Frequenc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ord List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17845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7652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175248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86200" y="190512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505320" y="19810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98108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038480" y="255888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55888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81280" y="259092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59092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5909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2603520"/>
            <a:ext cx="53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05320" y="18288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18288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29000" y="19051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905120"/>
            <a:ext cx="380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1905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52680" y="20574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219384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21337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09680" y="19810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9810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9810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19810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19810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29000" y="19810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576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95480" y="19810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9810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19810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623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752480"/>
            <a:ext cx="3200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09680" y="19051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19051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1905120"/>
            <a:ext cx="24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19051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905120"/>
            <a:ext cx="24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18288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182880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8892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90512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505320" y="18288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8288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81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182880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2408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17524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66068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17524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76720" y="167652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73664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24080" y="1736640"/>
            <a:ext cx="871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173664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17524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81280" y="160020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60020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29000" y="1981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1981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429000" y="173664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73664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8120" y="17845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1784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57600" y="19051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43200" y="17845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1784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71800" y="18288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18288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1784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17845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7524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12952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04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1981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20257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6880" y="20574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0574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05740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20574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18288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873080"/>
            <a:ext cx="380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873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8288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952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19051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90512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190512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040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981080"/>
            <a:ext cx="381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9810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43200" y="19810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9810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0257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6:06:39Z</dcterms:created>
  <dc:creator> </dc:creator>
  <dc:description/>
  <dc:language>en-US</dc:language>
  <cp:lastModifiedBy>Jefferson-Lewis BOCES</cp:lastModifiedBy>
  <dcterms:modified xsi:type="dcterms:W3CDTF">2006-06-16T14:25:51Z</dcterms:modified>
  <cp:revision>7</cp:revision>
  <dc:subject/>
  <dc:title>PowerPoint Presentation</dc:title>
</cp:coreProperties>
</file>