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CDC-AF35-4ED9-BB55-555D2C6D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0A3-8EA5-4D99-A17B-37A9EEF3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AA9-E17B-4DC1-8BF2-80AE0431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310-E662-4928-9421-A01D8198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6C2-ACA9-4A61-A8BE-22214332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3818-CC5D-459D-B5B6-E40F12E7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FB0-9C30-4A86-9335-C94F3925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CFB-A29A-4C8C-94EC-89E0D542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4C9-7756-4515-B4D3-2249EFE6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E52-0468-439F-8AED-44ADC24D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3C4-60D3-42C0-897F-6A7D3803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03B-4606-41DD-A6E0-0A1F6A38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D47D-1AD9-42EE-BB23-BAB8D3B49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1447920"/>
            <a:ext cx="4952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igh Frequenc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ord List 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178452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167652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17524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175248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17524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86200" y="1905120"/>
            <a:ext cx="457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505320" y="19810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98108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038480" y="255888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55888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581280" y="2590920"/>
            <a:ext cx="60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590920"/>
            <a:ext cx="60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59092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2603520"/>
            <a:ext cx="53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05320" y="18288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18288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29000" y="19051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905120"/>
            <a:ext cx="380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190512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352680" y="20574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219384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1337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09680" y="19810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9810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19810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19810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19810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429000" y="198108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1905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6576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95480" y="1981080"/>
            <a:ext cx="685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98108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198108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623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752480"/>
            <a:ext cx="3200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175248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09680" y="19051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1905120"/>
            <a:ext cx="2438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1905120"/>
            <a:ext cx="24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1905120"/>
            <a:ext cx="1828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905120"/>
            <a:ext cx="2438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182880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182880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8892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90512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505320" y="182880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8288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81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181296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1828800"/>
            <a:ext cx="19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24080" y="1676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175248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1660680"/>
            <a:ext cx="1218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1752480"/>
            <a:ext cx="2057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76720" y="1676520"/>
            <a:ext cx="99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73664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1752480"/>
            <a:ext cx="1295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124080" y="1736640"/>
            <a:ext cx="871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173664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17524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81280" y="1600200"/>
            <a:ext cx="83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600200"/>
            <a:ext cx="15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29000" y="1981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1981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429000" y="173664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73664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17845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178452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1752480"/>
            <a:ext cx="1447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57600" y="190512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9051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43200" y="178452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1752480"/>
            <a:ext cx="761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1784520"/>
            <a:ext cx="1295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971800" y="1828800"/>
            <a:ext cx="1143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1828800"/>
            <a:ext cx="838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1828800"/>
            <a:ext cx="13716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17845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178452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75248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12952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004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1981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20257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6880" y="20574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0574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05740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2057400"/>
            <a:ext cx="10666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95480" y="182880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873080"/>
            <a:ext cx="380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187308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82880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19520" y="190512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1905120"/>
            <a:ext cx="53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905120"/>
            <a:ext cx="53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10080" y="1905120"/>
            <a:ext cx="60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00400" y="1981080"/>
            <a:ext cx="914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981080"/>
            <a:ext cx="3812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981080"/>
            <a:ext cx="99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3200" y="19810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981080"/>
            <a:ext cx="76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981080"/>
            <a:ext cx="609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025720"/>
            <a:ext cx="10670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6:06:39Z</dcterms:created>
  <dc:creator> </dc:creator>
  <dc:description/>
  <dc:language>en-US</dc:language>
  <cp:lastModifiedBy>Jefferson-Lewis BOCES</cp:lastModifiedBy>
  <dcterms:modified xsi:type="dcterms:W3CDTF">2006-06-16T14:25:51Z</dcterms:modified>
  <cp:revision>7</cp:revision>
  <dc:subject/>
  <dc:title>PowerPoint Presentation</dc:title>
</cp:coreProperties>
</file>