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723-2444-4CE4-89CC-85746E12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722-5917-458B-BFE2-8261004A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2F9-1088-43E4-AF23-FF5C2D630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DC8E-73BA-4BAB-8FCA-C89E84D1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682-6CB5-4F50-AF97-5A9E9E5A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E0D1-9991-402F-9C23-9D12DD72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2EDE-1F5C-4D70-B5F6-F4FC5E08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C51-EB4B-484A-869A-5CC249B6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5AC-39F8-4A2F-9404-00E13B5A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070-E7BC-4211-96B6-D5D68DBC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EC6-02F5-499E-B30D-A13AD86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42C-6693-4AFA-B59A-DC8B4B90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61A3-F4C6-4635-8B84-D3E22F7B9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67652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Frequency Word List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192096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188928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905120"/>
            <a:ext cx="175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16765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8129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18288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18288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18892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19051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1905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90512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82880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1828800"/>
            <a:ext cx="20574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1600200"/>
            <a:ext cx="633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1600200"/>
            <a:ext cx="3352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1600200"/>
            <a:ext cx="2895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1584360"/>
            <a:ext cx="18288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166068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17524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175248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1676520"/>
            <a:ext cx="32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17524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17524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90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196524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9652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1584360"/>
            <a:ext cx="2895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17082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1676520"/>
            <a:ext cx="381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16606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6765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67652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167652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1676520"/>
            <a:ext cx="3200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6002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6002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600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1676520"/>
            <a:ext cx="243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1600200"/>
            <a:ext cx="2819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0866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17971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1812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6318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160020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169236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1676520"/>
            <a:ext cx="259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600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19051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19051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90512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19051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19051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53080" y="190512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16318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163188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16002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508040"/>
            <a:ext cx="3124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167652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16765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16765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10080" y="167652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170820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16765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129528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16318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7800" y="16318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173664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73664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17366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192096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90512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181296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920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82880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8288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828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182880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18288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184464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82880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182880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5238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15843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150804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7:14:15Z</dcterms:created>
  <dc:creator> </dc:creator>
  <dc:description/>
  <dc:language>en-US</dc:language>
  <cp:lastModifiedBy>Jefferson-Lewis BOCES</cp:lastModifiedBy>
  <dcterms:modified xsi:type="dcterms:W3CDTF">2006-06-16T14:26:04Z</dcterms:modified>
  <cp:revision>10</cp:revision>
  <dc:subject/>
  <dc:title> </dc:title>
</cp:coreProperties>
</file>