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23F-D14B-43BF-B2F3-0A15E3C5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DF1-AB51-4391-ABB7-64AAEE0B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FE5C-CEB2-4DC7-94EE-3AC9F626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56A-FCFC-4CD6-9250-22EBAEC2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40B-26F6-41EA-91C0-2EB25FC2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6C6-500A-428C-BDF1-8F628C41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6A6E-F731-4AD9-8295-C15B836D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BB8-185D-477E-961F-FAC88EE3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F03-D2FF-45C7-BA64-C70AAEE8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2C57-CD29-4D3C-876C-B0DC4584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9DD2-4348-4045-8A76-3285D463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507-2F02-4EB4-A890-F01D467D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BFC6-45F1-4658-B56D-15BB3F7A2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67652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Frequency Word List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192096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88928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1905120"/>
            <a:ext cx="1752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`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167652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81296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18288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18288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188928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19051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19051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90512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182880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1828800"/>
            <a:ext cx="2057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1600200"/>
            <a:ext cx="633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1600200"/>
            <a:ext cx="3352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1600200"/>
            <a:ext cx="2895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1584360"/>
            <a:ext cx="18288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1660680"/>
            <a:ext cx="266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17524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1752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175248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1676520"/>
            <a:ext cx="327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175248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175248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2590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196524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96524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1584360"/>
            <a:ext cx="2895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170820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1676520"/>
            <a:ext cx="381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166068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6765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167652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167652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1676520"/>
            <a:ext cx="3200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60020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60020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16002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16002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1676520"/>
            <a:ext cx="2438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1600200"/>
            <a:ext cx="2819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866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17971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1752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181296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163188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160020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169236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167652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160020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160020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16002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19051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19051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190512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19051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19051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190512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163188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1631880"/>
            <a:ext cx="53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160020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508040"/>
            <a:ext cx="3124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167652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16765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16765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1676520"/>
            <a:ext cx="838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170820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6765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16765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1295280"/>
            <a:ext cx="266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16318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160020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16318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173664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173664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173664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192096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1905120"/>
            <a:ext cx="457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181296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92096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182880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182880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18288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182880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18288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184464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828800"/>
            <a:ext cx="457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182880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52388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158436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158436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150804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7:14:15Z</dcterms:created>
  <dc:creator> </dc:creator>
  <dc:description/>
  <dc:language>en-US</dc:language>
  <cp:lastModifiedBy>Jefferson-Lewis BOCES</cp:lastModifiedBy>
  <dcterms:modified xsi:type="dcterms:W3CDTF">2006-06-16T14:26:04Z</dcterms:modified>
  <cp:revision>10</cp:revision>
  <dc:subject/>
  <dc:title> </dc:title>
</cp:coreProperties>
</file>