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239-30A1-4B4E-BD09-BBEBC4D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0A5-29B2-4761-873A-C85A8639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7B9-6264-4E59-85F9-D6AAA84F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3EA-BA50-4310-B0DF-D83A40BD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BDA-1BDF-4F5A-8E9F-E2E8439C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C21-8C2D-43F0-9B21-E748942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4CC-3602-4983-B6BC-30129E2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A39-AA57-49BB-A685-D86CB93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B64-841B-4802-826C-0C742DA0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A1F-87F6-4038-B798-3D6D0A1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D13-FA82-41AB-96AF-CFA06F4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4BE-1EF8-4F1F-85A5-F28EA7F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1BC8-4852-46F0-91CA-EBC14F68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765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requency Word List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92096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88928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9051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8129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8892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9051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828800"/>
            <a:ext cx="2057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600200"/>
            <a:ext cx="63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600200"/>
            <a:ext cx="335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600200"/>
            <a:ext cx="2895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584360"/>
            <a:ext cx="1828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16606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752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67652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9652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9652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584360"/>
            <a:ext cx="2895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7082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1676520"/>
            <a:ext cx="381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6606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676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765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16765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600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600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6765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6002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6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1797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812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318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60020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69236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1676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19051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90512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9051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90512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6318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6318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508040"/>
            <a:ext cx="3124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16765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167652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17082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1676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12952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16318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6318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173664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73664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7366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92096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8129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920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8288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82880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84464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82880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8288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5238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5843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50804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14:15Z</dcterms:created>
  <dc:creator> </dc:creator>
  <dc:description/>
  <dc:language>en-US</dc:language>
  <cp:lastModifiedBy>Jefferson-Lewis BOCES</cp:lastModifiedBy>
  <dcterms:modified xsi:type="dcterms:W3CDTF">2006-06-16T14:26:04Z</dcterms:modified>
  <cp:revision>10</cp:revision>
  <dc:subject/>
  <dc:title> </dc:title>
</cp:coreProperties>
</file>