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68E-89E7-43E7-A705-1428BCD1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E60-3A62-4B98-89B5-E642114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F75-0C30-4793-A0BA-8DC101C0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20C-22C6-4149-A360-AFA5078F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24E-E761-4935-AC76-08B03D6B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FA1-AEF5-4744-AC00-0C6FAE0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001-AEA7-4969-A580-D703F786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EB0-5D01-40D0-AAF5-0A6C27B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FEF-E1AA-4717-800C-7DC35DA0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29B-D105-405E-9E8E-57C15EE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945-8612-4BB5-8529-2CEB78F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E6D-2854-4716-BCC0-62577D9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F697-67C9-4B08-B0A7-E0708B401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209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quency Word List 3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54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828800"/>
            <a:ext cx="29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71800" y="1676520"/>
            <a:ext cx="94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67652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8120" y="1736640"/>
            <a:ext cx="365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17845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1784520"/>
            <a:ext cx="1542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43200" y="1708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67652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24080" y="17049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17366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17049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1403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14032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4320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3716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1781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81296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81296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781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78452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6480" y="1752480"/>
            <a:ext cx="1714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24080" y="20415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20415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19810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1631880"/>
            <a:ext cx="314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631880"/>
            <a:ext cx="177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60020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1828800"/>
            <a:ext cx="350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19520" y="1784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1784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160020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76720" y="182880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6232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600200"/>
            <a:ext cx="140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1600200"/>
            <a:ext cx="1646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3360" y="1600200"/>
            <a:ext cx="1463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16002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90920" y="143208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40004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4320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43200" y="1936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9368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71800" y="198108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95520" y="1905120"/>
            <a:ext cx="13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190512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905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9051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9810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2013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812960"/>
            <a:ext cx="14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7812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781280"/>
            <a:ext cx="186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7812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1784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7524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52388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1905120"/>
            <a:ext cx="10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19051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19051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68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1752480"/>
            <a:ext cx="10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1784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476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4763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47636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90920" y="1555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555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152388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3526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1600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46:05Z</dcterms:created>
  <dc:creator> </dc:creator>
  <dc:description/>
  <dc:language>en-US</dc:language>
  <cp:lastModifiedBy>Jefferson-Lewis BOCES</cp:lastModifiedBy>
  <dcterms:modified xsi:type="dcterms:W3CDTF">2006-06-16T14:26:20Z</dcterms:modified>
  <cp:revision>4</cp:revision>
  <dc:subject/>
  <dc:title>PowerPoint Presentation</dc:title>
</cp:coreProperties>
</file>