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2E1-1158-4701-8759-DA33783F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2DF-483A-4C61-8075-24000AA8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58F-00C8-4F36-8296-EC5B0203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AA5-5D6D-440E-8223-44E360EC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58B-079D-491B-B5CD-A1F38CFB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456-57AA-4239-8009-638DA079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1C1-7999-4012-A58D-03A526AB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D1E-2226-4C41-8332-423ADE50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C56-9B67-496B-AC49-11513038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472-8A5A-4829-BEAF-3815ECF0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365-C9E5-4537-AF62-E5ADF6AE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DAE-B639-44AA-A92B-AFA7BCDA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2C06-DBFF-4E67-B1E8-863A7D89D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2096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equency Word List 3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95480" y="18288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1828800"/>
            <a:ext cx="2971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971800" y="1676520"/>
            <a:ext cx="94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67652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6765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8120" y="1736640"/>
            <a:ext cx="3657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178452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1784520"/>
            <a:ext cx="1542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743200" y="1708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67652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24080" y="170496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173664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170496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09680" y="1403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14032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14320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13716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95480" y="1781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81296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181296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1781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43200" y="1784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71800" y="1784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784520"/>
            <a:ext cx="12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6480" y="1752480"/>
            <a:ext cx="1714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24080" y="204156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204156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0574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19810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1631880"/>
            <a:ext cx="314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1631880"/>
            <a:ext cx="177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60020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8120" y="1828800"/>
            <a:ext cx="3504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19520" y="1784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1784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19520" y="160020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16002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6002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1600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76720" y="1828800"/>
            <a:ext cx="312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62320" y="1600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1600200"/>
            <a:ext cx="140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1600200"/>
            <a:ext cx="1646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13360" y="1600200"/>
            <a:ext cx="1463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160020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90920" y="1432080"/>
            <a:ext cx="22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40004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143208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43200" y="1936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93680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19051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71800" y="1981080"/>
            <a:ext cx="312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95520" y="1905120"/>
            <a:ext cx="13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9051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76800" y="1905120"/>
            <a:ext cx="19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19051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905120"/>
            <a:ext cx="175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4600" y="19810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20131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9810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9810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38280" y="1812960"/>
            <a:ext cx="1490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178128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781280"/>
            <a:ext cx="186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178128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33720" y="17845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7524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7524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17524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523880"/>
            <a:ext cx="312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1905120"/>
            <a:ext cx="1012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19051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190512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688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1752480"/>
            <a:ext cx="102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1784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6232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1476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47636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147636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90920" y="15559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15559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1523880"/>
            <a:ext cx="19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3526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16002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6:46:05Z</dcterms:created>
  <dc:creator> </dc:creator>
  <dc:description/>
  <dc:language>en-US</dc:language>
  <cp:lastModifiedBy>Jefferson-Lewis BOCES</cp:lastModifiedBy>
  <dcterms:modified xsi:type="dcterms:W3CDTF">2006-06-16T14:26:20Z</dcterms:modified>
  <cp:revision>4</cp:revision>
  <dc:subject/>
  <dc:title>PowerPoint Presentation</dc:title>
</cp:coreProperties>
</file>