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F44-582E-4F0A-AF18-F8917B17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CE6-6532-46DF-9B66-698ADA13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53F-6DF8-42E5-BC93-CA7B518C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A96-8D33-44A5-A2EF-5E3EB69F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849-A736-450B-8AED-871E460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9C1-FC58-4ACB-84DD-E6ECBB5E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0B3-DC91-4E1F-99EF-B4CF2877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909-CA91-474B-A205-03464B44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560-C876-4E35-A8D8-1370B6E4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AD8-91E5-425C-B2EE-03B63691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9EA-F0F5-4475-8A00-FDB87AE3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69F-9693-4E08-8761-695632C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B644-F9F7-4D1B-9206-FC7CC59C5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20968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quency Word List 3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5480" y="18288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1828800"/>
            <a:ext cx="297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71800" y="1676520"/>
            <a:ext cx="947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167652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6765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8120" y="1736640"/>
            <a:ext cx="3657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178452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1784520"/>
            <a:ext cx="1542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7692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43200" y="1708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676520"/>
            <a:ext cx="2666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24080" y="170496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173664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170496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09680" y="1403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140328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14320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13716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95480" y="1781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181296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181296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17812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43200" y="1784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175248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971800" y="1784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1784520"/>
            <a:ext cx="1200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86480" y="1752480"/>
            <a:ext cx="1714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24080" y="204156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204156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0574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19810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95480" y="1631880"/>
            <a:ext cx="314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1631880"/>
            <a:ext cx="1778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60020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8120" y="1828800"/>
            <a:ext cx="350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19520" y="1784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17524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1784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19520" y="1600200"/>
            <a:ext cx="1676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1600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6002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6002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76720" y="182880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62320" y="16002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1600200"/>
            <a:ext cx="1401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1600200"/>
            <a:ext cx="1646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13360" y="1600200"/>
            <a:ext cx="1463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160020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90920" y="1432080"/>
            <a:ext cx="2209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140004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43208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43200" y="193680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93680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71800" y="198108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95520" y="1905120"/>
            <a:ext cx="131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051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76800" y="1905120"/>
            <a:ext cx="19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1905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1905120"/>
            <a:ext cx="1752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14600" y="19810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2013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38280" y="1812960"/>
            <a:ext cx="1490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781280"/>
            <a:ext cx="1303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1781280"/>
            <a:ext cx="1861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1781280"/>
            <a:ext cx="167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33720" y="1784520"/>
            <a:ext cx="1600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7524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175248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17524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523880"/>
            <a:ext cx="3124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1905120"/>
            <a:ext cx="1012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4800" y="1905120"/>
            <a:ext cx="1447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190512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6880" y="17524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1752480"/>
            <a:ext cx="102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17524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17845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62320" y="150804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147636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47636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147636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90920" y="155592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15559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15238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152388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3526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160020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16002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6:46:05Z</dcterms:created>
  <dc:creator> </dc:creator>
  <dc:description/>
  <dc:language>en-US</dc:language>
  <cp:lastModifiedBy>Jefferson-Lewis BOCES</cp:lastModifiedBy>
  <dcterms:modified xsi:type="dcterms:W3CDTF">2006-06-16T14:26:20Z</dcterms:modified>
  <cp:revision>4</cp:revision>
  <dc:subject/>
  <dc:title>PowerPoint Presentation</dc:title>
</cp:coreProperties>
</file>