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AB1-584E-431C-A9F6-AD0A6AEE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BB2-2FC2-446D-B6B4-0C41532D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65C-5DE8-4D4B-A04A-658285B6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14C-1351-4144-BCF0-3E81F3BA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B90-E079-4971-865D-C6596E0C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A35-C56B-4D70-B930-33F2E0BE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8AE-90AD-42C0-AF30-E71855BE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D40-0787-4694-BC2E-8311D3EB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608-ACDD-4EAB-BBC4-3B5C99B2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F40-9976-4B52-A4A8-CAAEE240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277-FE13-47AC-B828-8AAC0AA9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38A-07EB-4409-A22B-A0482C1C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57E2-D785-4F70-A016-7C85DEBAF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52388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Frequency Word #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7524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7524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43200" y="15238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-762120"/>
            <a:ext cx="125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52388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152388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90920" y="14479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4479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44792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14479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62320" y="13716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3716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3716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137160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14479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4479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14479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14479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4479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1447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14479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43200" y="1371600"/>
            <a:ext cx="1930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1371600"/>
            <a:ext cx="112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1371600"/>
            <a:ext cx="1770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13716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1752480"/>
            <a:ext cx="589284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600200"/>
            <a:ext cx="1218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600200"/>
            <a:ext cx="9144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1600200"/>
            <a:ext cx="6094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1600200"/>
            <a:ext cx="762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600200"/>
            <a:ext cx="24559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600200"/>
            <a:ext cx="1143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600200"/>
            <a:ext cx="1143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600200"/>
            <a:ext cx="990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0" y="1447920"/>
            <a:ext cx="112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43480" y="1447920"/>
            <a:ext cx="120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44792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92640" y="1447920"/>
            <a:ext cx="96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4479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144792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76720" y="1523880"/>
            <a:ext cx="169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1523880"/>
            <a:ext cx="1481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62640" y="175248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77040" y="175248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1828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13360" y="1828800"/>
            <a:ext cx="192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71800" y="1949400"/>
            <a:ext cx="888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1949400"/>
            <a:ext cx="1396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52388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15238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27680" y="152388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0" y="1676520"/>
            <a:ext cx="97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1676520"/>
            <a:ext cx="107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676520"/>
            <a:ext cx="8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167652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45200" y="1676520"/>
            <a:ext cx="107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167652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05120" y="1600200"/>
            <a:ext cx="853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1600200"/>
            <a:ext cx="1812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600200"/>
            <a:ext cx="245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4160" y="1600200"/>
            <a:ext cx="74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16002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1600200"/>
            <a:ext cx="213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5238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1523880"/>
            <a:ext cx="1245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35120" y="1584360"/>
            <a:ext cx="249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1800" y="1432080"/>
            <a:ext cx="193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57600" y="1523880"/>
            <a:ext cx="13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2000" y="1523880"/>
            <a:ext cx="13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35720" y="1523880"/>
            <a:ext cx="110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362320" y="1523880"/>
            <a:ext cx="2190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584360"/>
            <a:ext cx="372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150804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508040"/>
            <a:ext cx="350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150804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38280" y="1447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1447920"/>
            <a:ext cx="72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4479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4479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1447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62320" y="1676520"/>
            <a:ext cx="154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676520"/>
            <a:ext cx="140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1676520"/>
            <a:ext cx="210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49800" y="1676520"/>
            <a:ext cx="140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1080" y="16765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676520"/>
            <a:ext cx="186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167652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6240" y="1676520"/>
            <a:ext cx="204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6765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14600" y="1676520"/>
            <a:ext cx="896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1676520"/>
            <a:ext cx="896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6765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1676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81080" y="160020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60020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60020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6002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17524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768320"/>
            <a:ext cx="213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17683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7683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17683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7683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33720" y="15238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5238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5238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15238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5238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33720" y="1600200"/>
            <a:ext cx="150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06800" y="1600200"/>
            <a:ext cx="960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8280" y="1600200"/>
            <a:ext cx="123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8120" y="15238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15238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152388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15238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0" y="16765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16765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44792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1447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14479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14479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812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438280" y="1600200"/>
            <a:ext cx="133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1600200"/>
            <a:ext cx="133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1600200"/>
            <a:ext cx="1199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71960" y="160020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16002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666880" y="1508040"/>
            <a:ext cx="155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1508040"/>
            <a:ext cx="155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50804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1508040"/>
            <a:ext cx="1904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76720" y="15238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15382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15238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09680" y="175248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120" y="175248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-76320"/>
            <a:ext cx="1067040" cy="8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057400"/>
            <a:ext cx="1238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62280" y="2057400"/>
            <a:ext cx="1123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86240" y="2057400"/>
            <a:ext cx="933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-92160"/>
            <a:ext cx="16002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057400"/>
            <a:ext cx="1143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2057400"/>
            <a:ext cx="10670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24800" y="2057400"/>
            <a:ext cx="971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19520" y="1676520"/>
            <a:ext cx="133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1676520"/>
            <a:ext cx="1199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0160" y="1676520"/>
            <a:ext cx="133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1676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954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00680" y="1752480"/>
            <a:ext cx="1257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175248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19520" y="167652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76520"/>
            <a:ext cx="2895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1676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600200"/>
            <a:ext cx="115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1600200"/>
            <a:ext cx="215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92640" y="160020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7160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16002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1600200"/>
            <a:ext cx="166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9268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92680" y="1600200"/>
            <a:ext cx="1013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16002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16002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200400" y="1676520"/>
            <a:ext cx="15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1676520"/>
            <a:ext cx="180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95480" y="1523880"/>
            <a:ext cx="85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1523880"/>
            <a:ext cx="752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1523880"/>
            <a:ext cx="107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8280" y="1523880"/>
            <a:ext cx="1311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666880" y="16606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1660680"/>
            <a:ext cx="185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08440" y="1660680"/>
            <a:ext cx="123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16606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76720" y="1828800"/>
            <a:ext cx="87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1828800"/>
            <a:ext cx="13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33920" y="1828800"/>
            <a:ext cx="13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18288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14600" y="173664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1736640"/>
            <a:ext cx="160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09920" y="173664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7366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90920" y="19051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19051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90512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9051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3372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812960"/>
            <a:ext cx="142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812960"/>
            <a:ext cx="284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812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7664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17524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90920" y="1812960"/>
            <a:ext cx="13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812960"/>
            <a:ext cx="1236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1812960"/>
            <a:ext cx="174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181296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819520" y="15238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15238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15238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895480" y="1600200"/>
            <a:ext cx="118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600200"/>
            <a:ext cx="164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11840" y="1600200"/>
            <a:ext cx="118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3880" y="17524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175248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17524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65720" y="17524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74320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158436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304920"/>
            <a:ext cx="1028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16606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895480" y="1828800"/>
            <a:ext cx="226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182880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18288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18288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429000" y="1584360"/>
            <a:ext cx="1295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1600200"/>
            <a:ext cx="30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6002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43200" y="19051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9051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9051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17524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17524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66880" y="175248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81280" y="1752480"/>
            <a:ext cx="3205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60840" y="1752480"/>
            <a:ext cx="2068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1676520"/>
            <a:ext cx="112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95760" y="1676520"/>
            <a:ext cx="154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67652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71800" y="17524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0680" y="17524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055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819520" y="17524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1752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175248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1752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514600" y="1676520"/>
            <a:ext cx="1246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1676520"/>
            <a:ext cx="1246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1676520"/>
            <a:ext cx="149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640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276720" y="1905120"/>
            <a:ext cx="1028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29280" y="1905120"/>
            <a:ext cx="1028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1905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81480" y="1905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590920" y="144792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1447920"/>
            <a:ext cx="2476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144792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0480" y="144792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438280" y="13716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13716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14479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08560" y="1371600"/>
            <a:ext cx="8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13716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666880" y="152388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1523880"/>
            <a:ext cx="111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9560" y="152388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152388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1676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676520"/>
            <a:ext cx="1752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68800" y="1676520"/>
            <a:ext cx="115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3280" y="1676520"/>
            <a:ext cx="1244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44960" y="1676520"/>
            <a:ext cx="99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75200" y="1676520"/>
            <a:ext cx="128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1240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5296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27672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190512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0040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17524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200400" y="1600200"/>
            <a:ext cx="1306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1600200"/>
            <a:ext cx="1469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43200" y="14479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40040" y="1447920"/>
            <a:ext cx="831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1840" y="14479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86400" y="14479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14600" y="1523880"/>
            <a:ext cx="1165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1447920"/>
            <a:ext cx="1165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15238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42040" y="1523880"/>
            <a:ext cx="906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15238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124080" y="167652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16765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16765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19520" y="190512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1905120"/>
            <a:ext cx="1155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80040" y="1905120"/>
            <a:ext cx="181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19051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666880" y="1523880"/>
            <a:ext cx="165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52680" y="1523880"/>
            <a:ext cx="165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9400" y="1523880"/>
            <a:ext cx="165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81480" y="15238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09680" y="144792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89200" y="1447920"/>
            <a:ext cx="24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76320"/>
            <a:ext cx="99072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08560" y="144792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523880"/>
            <a:ext cx="1104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-762120"/>
            <a:ext cx="990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15238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18288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82880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8288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828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182880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4:09:43Z</dcterms:created>
  <dc:creator>Administrator</dc:creator>
  <dc:description/>
  <dc:language>en-US</dc:language>
  <cp:lastModifiedBy>Jefferson-Lewis BOCES</cp:lastModifiedBy>
  <dcterms:modified xsi:type="dcterms:W3CDTF">2006-06-16T14:26:37Z</dcterms:modified>
  <cp:revision>44</cp:revision>
  <dc:subject/>
  <dc:title>PowerPoint Presentation</dc:title>
</cp:coreProperties>
</file>