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664-9A4F-4F6E-8567-727E9CD9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ECC-5B66-4E73-884E-B211CA23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9893-6899-445E-BEFC-BB57901D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470-BA8D-484F-9AED-543C28ED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DECD-433B-40A6-BCE2-2784B8AF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52D-00A0-4EAA-8317-AC4020B0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667-C5CF-41EF-A0F4-7D2426CA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AAD-4384-4A3C-B044-B096ADFC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262-D78C-43C8-8383-7254A255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7D5-9FB1-4747-9233-48F58FF8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DF5-2363-4E1F-A9BF-D363D922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49B-2275-4242-8DD9-F82F5410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0667-1977-4F69-A247-61EB567C2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523880"/>
            <a:ext cx="6781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Frequency Word #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7524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17524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7524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43200" y="15238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-762120"/>
            <a:ext cx="1257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152388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152388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90920" y="14479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14479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144792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14479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62320" y="13716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3716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13716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137160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14479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14479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14479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14479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14479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14479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14479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43200" y="1371600"/>
            <a:ext cx="1930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1371600"/>
            <a:ext cx="112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1371600"/>
            <a:ext cx="1770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137160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38280" y="1752480"/>
            <a:ext cx="589284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1600200"/>
            <a:ext cx="121896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600200"/>
            <a:ext cx="9144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1600200"/>
            <a:ext cx="6094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1600200"/>
            <a:ext cx="7621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600200"/>
            <a:ext cx="24559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600200"/>
            <a:ext cx="1143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1600200"/>
            <a:ext cx="1143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600200"/>
            <a:ext cx="9907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0" y="1447920"/>
            <a:ext cx="1125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43480" y="1447920"/>
            <a:ext cx="120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447920"/>
            <a:ext cx="128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92640" y="1447920"/>
            <a:ext cx="96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4479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144792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76720" y="1523880"/>
            <a:ext cx="169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1523880"/>
            <a:ext cx="1481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17524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17524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62640" y="1752480"/>
            <a:ext cx="14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77040" y="1752480"/>
            <a:ext cx="145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1828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1828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13360" y="1828800"/>
            <a:ext cx="1920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1828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971800" y="1949400"/>
            <a:ext cx="888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1949400"/>
            <a:ext cx="13968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523880"/>
            <a:ext cx="1397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152388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27680" y="1523880"/>
            <a:ext cx="101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0" y="1676520"/>
            <a:ext cx="97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1676520"/>
            <a:ext cx="107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1676520"/>
            <a:ext cx="86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167652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45200" y="1676520"/>
            <a:ext cx="1079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167652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05120" y="1600200"/>
            <a:ext cx="853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1600200"/>
            <a:ext cx="18129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1600200"/>
            <a:ext cx="245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64160" y="1600200"/>
            <a:ext cx="745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160020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1600200"/>
            <a:ext cx="2133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52388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1523880"/>
            <a:ext cx="1245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35120" y="1584360"/>
            <a:ext cx="249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1800" y="1432080"/>
            <a:ext cx="193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57600" y="1523880"/>
            <a:ext cx="13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72000" y="1523880"/>
            <a:ext cx="13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35720" y="1523880"/>
            <a:ext cx="110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362320" y="1523880"/>
            <a:ext cx="2190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1584360"/>
            <a:ext cx="372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1508040"/>
            <a:ext cx="19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1508040"/>
            <a:ext cx="3504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150804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438280" y="14479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1447920"/>
            <a:ext cx="723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4479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44792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14479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362320" y="1676520"/>
            <a:ext cx="154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1676520"/>
            <a:ext cx="140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1676520"/>
            <a:ext cx="210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49800" y="1676520"/>
            <a:ext cx="140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81080" y="167652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676520"/>
            <a:ext cx="186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167652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6240" y="1676520"/>
            <a:ext cx="204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167652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14600" y="1676520"/>
            <a:ext cx="896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57600" y="1676520"/>
            <a:ext cx="896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6765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1676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981080" y="160020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60020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16002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160020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160020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1600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17524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1768320"/>
            <a:ext cx="2133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17683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7683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176832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17683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133720" y="15238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15238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15238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15238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15238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33720" y="1600200"/>
            <a:ext cx="150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6002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16002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06800" y="1600200"/>
            <a:ext cx="960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18280" y="1600200"/>
            <a:ext cx="1234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16002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8120" y="15238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15238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152388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15238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0" y="16765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16765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38480" y="167652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1676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44792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14479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144792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14479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8120" y="16765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16765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1676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1676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438280" y="1600200"/>
            <a:ext cx="133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1600200"/>
            <a:ext cx="1333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1600200"/>
            <a:ext cx="1199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71960" y="1600200"/>
            <a:ext cx="12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160020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666880" y="1508040"/>
            <a:ext cx="1559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1508040"/>
            <a:ext cx="155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150804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1508040"/>
            <a:ext cx="1904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76720" y="152388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15382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15238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09680" y="175248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91120" y="175248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-76320"/>
            <a:ext cx="1067040" cy="86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057400"/>
            <a:ext cx="1238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62280" y="2057400"/>
            <a:ext cx="1123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86240" y="2057400"/>
            <a:ext cx="933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-92160"/>
            <a:ext cx="16002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057400"/>
            <a:ext cx="1143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2057400"/>
            <a:ext cx="10670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24800" y="2057400"/>
            <a:ext cx="971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19520" y="1676520"/>
            <a:ext cx="133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1676520"/>
            <a:ext cx="1199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10160" y="1676520"/>
            <a:ext cx="133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16765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9548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00680" y="1752480"/>
            <a:ext cx="1257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52880" y="17524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175248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819520" y="167652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76520"/>
            <a:ext cx="2895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8320" y="1676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438280" y="1600200"/>
            <a:ext cx="115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1600200"/>
            <a:ext cx="2158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92640" y="1600200"/>
            <a:ext cx="172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371600" y="160020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0" y="160020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160020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1600200"/>
            <a:ext cx="1665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92680" y="160020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92680" y="1600200"/>
            <a:ext cx="1013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160020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160020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200400" y="1676520"/>
            <a:ext cx="1538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91120" y="1676520"/>
            <a:ext cx="1809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895480" y="1523880"/>
            <a:ext cx="85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1523880"/>
            <a:ext cx="752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91120" y="1523880"/>
            <a:ext cx="107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8280" y="1523880"/>
            <a:ext cx="1311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666880" y="16606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1660680"/>
            <a:ext cx="1850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08440" y="1660680"/>
            <a:ext cx="1235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16606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276720" y="1828800"/>
            <a:ext cx="87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1828800"/>
            <a:ext cx="13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33920" y="1828800"/>
            <a:ext cx="13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182880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514600" y="1736640"/>
            <a:ext cx="186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1736640"/>
            <a:ext cx="160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09920" y="1736640"/>
            <a:ext cx="186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173664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90920" y="19051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19051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190512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905120"/>
            <a:ext cx="175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33720" y="1812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812960"/>
            <a:ext cx="1422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812960"/>
            <a:ext cx="284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1812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38680" y="181296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812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7664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17524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90920" y="1812960"/>
            <a:ext cx="13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76720" y="1812960"/>
            <a:ext cx="1236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1812960"/>
            <a:ext cx="1746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181296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5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819520" y="15238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15238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24280" y="15238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895480" y="1600200"/>
            <a:ext cx="118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600200"/>
            <a:ext cx="164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11840" y="1600200"/>
            <a:ext cx="1184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57800" y="16765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23880" y="175248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6232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29000" y="175248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3400" y="175248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65720" y="175248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17524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74320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200400" y="158436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67080" y="304920"/>
            <a:ext cx="1028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16606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2895480" y="1828800"/>
            <a:ext cx="2264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1828800"/>
            <a:ext cx="312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18288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182880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429000" y="1584360"/>
            <a:ext cx="1295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1600200"/>
            <a:ext cx="30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60020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43200" y="190512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9051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9051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6688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17524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95680" y="17524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1752480"/>
            <a:ext cx="1524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66880" y="1752480"/>
            <a:ext cx="186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81280" y="1752480"/>
            <a:ext cx="3205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60840" y="1752480"/>
            <a:ext cx="2068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1752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743200" y="1676520"/>
            <a:ext cx="1122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95760" y="1676520"/>
            <a:ext cx="154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167652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71800" y="1752480"/>
            <a:ext cx="15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0680" y="175248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05520" y="1752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819520" y="1752480"/>
            <a:ext cx="1303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17524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175248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17524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514600" y="1676520"/>
            <a:ext cx="1246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1676520"/>
            <a:ext cx="1246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1676520"/>
            <a:ext cx="149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86400" y="1676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276720" y="1905120"/>
            <a:ext cx="1028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29280" y="1905120"/>
            <a:ext cx="1028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1905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81480" y="19051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590920" y="144792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1447920"/>
            <a:ext cx="2476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1447920"/>
            <a:ext cx="19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0480" y="144792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438280" y="13716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13716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19720" y="14479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08560" y="1371600"/>
            <a:ext cx="86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638680" y="13716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666880" y="1523880"/>
            <a:ext cx="1397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33920" y="1523880"/>
            <a:ext cx="1117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9560" y="152388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1523880"/>
            <a:ext cx="2514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1676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676520"/>
            <a:ext cx="17528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68800" y="1676520"/>
            <a:ext cx="1150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3280" y="1676520"/>
            <a:ext cx="1244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44960" y="1676520"/>
            <a:ext cx="99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75200" y="1676520"/>
            <a:ext cx="1287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12408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5296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0552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276720" y="19051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190512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19051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43600" y="19051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0040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1480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17524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200400" y="1600200"/>
            <a:ext cx="1306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114800" y="1600200"/>
            <a:ext cx="1469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600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43200" y="14479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40040" y="1447920"/>
            <a:ext cx="831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1840" y="1447920"/>
            <a:ext cx="996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86400" y="14479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14600" y="1523880"/>
            <a:ext cx="1165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2680" y="1447920"/>
            <a:ext cx="1165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15238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42040" y="1523880"/>
            <a:ext cx="906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15238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4" dur="indefinite" restart="never" nodeType="tmRoot">
          <p:childTnLst>
            <p:seq>
              <p:cTn id="1685" dur="indefinite" nodeType="mainSeq">
                <p:childTnLst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124080" y="167652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38480" y="16765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16765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7" dur="indefinite" restart="never" nodeType="tmRoot">
          <p:childTnLst>
            <p:seq>
              <p:cTn id="1708" dur="indefinite" nodeType="mainSeq">
                <p:childTnLst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819520" y="1905120"/>
            <a:ext cx="148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1905120"/>
            <a:ext cx="1155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80040" y="1905120"/>
            <a:ext cx="1815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 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05520" y="1905120"/>
            <a:ext cx="198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666880" y="1523880"/>
            <a:ext cx="165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52680" y="1523880"/>
            <a:ext cx="165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89400" y="1523880"/>
            <a:ext cx="1654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81480" y="15238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209680" y="1447920"/>
            <a:ext cx="304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89200" y="1447920"/>
            <a:ext cx="2492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76320"/>
            <a:ext cx="99072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08560" y="1447920"/>
            <a:ext cx="1320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15238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1523880"/>
            <a:ext cx="1104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-762120"/>
            <a:ext cx="990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2720" y="152388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33720" y="1828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18288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82880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82880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1828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182880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4:09:43Z</dcterms:created>
  <dc:creator>Administrator</dc:creator>
  <dc:description/>
  <dc:language>en-US</dc:language>
  <cp:lastModifiedBy>Jefferson-Lewis BOCES</cp:lastModifiedBy>
  <dcterms:modified xsi:type="dcterms:W3CDTF">2006-06-16T14:26:37Z</dcterms:modified>
  <cp:revision>44</cp:revision>
  <dc:subject/>
  <dc:title>PowerPoint Presentation</dc:title>
</cp:coreProperties>
</file>