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C13-86CC-436B-9CBF-A70EF70A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8EE-32F6-4FCD-B1B7-A7DBEE6A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9E0-DFF9-4457-91C5-945032E2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E90-E3D9-4084-A98D-E645969A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B32-08BE-4983-AC88-A9AAAA7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50F-C6C2-4B46-87AA-2DF70E10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76F-9DB2-4076-AD67-61A01AC0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CBC-F9AF-445D-9F01-852F1D63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729-C461-413F-BA2D-A81F483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F12-7891-47ED-A6DF-AFCC5AB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915-5718-49BA-BA30-6C63AE8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266-4FC9-4AFF-A0D0-E1B750D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0AC7-36A4-4DFD-BA7B-E309BD70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52388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requency Word #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43200" y="15238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-762120"/>
            <a:ext cx="125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238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52388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14479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137160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43200" y="1371600"/>
            <a:ext cx="1930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1371600"/>
            <a:ext cx="112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371600"/>
            <a:ext cx="177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752480"/>
            <a:ext cx="589284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600200"/>
            <a:ext cx="1218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600200"/>
            <a:ext cx="9144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600200"/>
            <a:ext cx="6094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600200"/>
            <a:ext cx="762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600200"/>
            <a:ext cx="2455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99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144792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3480" y="1447920"/>
            <a:ext cx="120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44792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92640" y="144792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76720" y="152388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523880"/>
            <a:ext cx="1481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26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770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3360" y="1828800"/>
            <a:ext cx="192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71800" y="1949400"/>
            <a:ext cx="888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949400"/>
            <a:ext cx="1396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768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167652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676520"/>
            <a:ext cx="107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67652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67652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5200" y="1676520"/>
            <a:ext cx="107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6765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5120" y="1600200"/>
            <a:ext cx="853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600200"/>
            <a:ext cx="1812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600200"/>
            <a:ext cx="245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4160" y="1600200"/>
            <a:ext cx="74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160020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1523880"/>
            <a:ext cx="124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5120" y="1584360"/>
            <a:ext cx="249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1800" y="1432080"/>
            <a:ext cx="193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576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20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35720" y="1523880"/>
            <a:ext cx="110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62320" y="1523880"/>
            <a:ext cx="219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584360"/>
            <a:ext cx="372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50804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50804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150804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3828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447920"/>
            <a:ext cx="72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4479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1676520"/>
            <a:ext cx="21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498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67652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6240" y="167652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6765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1080" y="16002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600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6002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76832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7683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17683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7683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337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523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33720" y="1600200"/>
            <a:ext cx="150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06800" y="1600200"/>
            <a:ext cx="96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8280" y="160020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15238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5238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14479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81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4382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160020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1960" y="160020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66880" y="1508040"/>
            <a:ext cx="155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1508040"/>
            <a:ext cx="155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5080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50804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15238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5382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09680" y="17524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17524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-76320"/>
            <a:ext cx="1067040" cy="8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057400"/>
            <a:ext cx="1238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62280" y="2057400"/>
            <a:ext cx="1123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6240" y="2057400"/>
            <a:ext cx="93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-92160"/>
            <a:ext cx="1600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057400"/>
            <a:ext cx="1143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057400"/>
            <a:ext cx="1067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4800" y="2057400"/>
            <a:ext cx="971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1952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167652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16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954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0680" y="1752480"/>
            <a:ext cx="1257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75248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195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7652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676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60020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1600200"/>
            <a:ext cx="215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92640" y="16002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1600200"/>
            <a:ext cx="166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9268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92680" y="1600200"/>
            <a:ext cx="101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00400" y="1676520"/>
            <a:ext cx="15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1676520"/>
            <a:ext cx="180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95480" y="1523880"/>
            <a:ext cx="85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1523880"/>
            <a:ext cx="752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1523880"/>
            <a:ext cx="107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8280" y="1523880"/>
            <a:ext cx="1311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66688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1660680"/>
            <a:ext cx="185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08440" y="166068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76720" y="1828800"/>
            <a:ext cx="87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3392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1460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736640"/>
            <a:ext cx="160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992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7366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9051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8129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812960"/>
            <a:ext cx="284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8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90920" y="181296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812960"/>
            <a:ext cx="123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1812960"/>
            <a:ext cx="174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1812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1952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1600200"/>
            <a:ext cx="118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600200"/>
            <a:ext cx="164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11840" y="1600200"/>
            <a:ext cx="118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388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175248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572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7432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158436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04920"/>
            <a:ext cx="1028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16606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95480" y="1828800"/>
            <a:ext cx="226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429000" y="1584360"/>
            <a:ext cx="1295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1600200"/>
            <a:ext cx="3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43200" y="19051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17524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66880" y="175248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1280" y="1752480"/>
            <a:ext cx="32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60840" y="1752480"/>
            <a:ext cx="20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1676520"/>
            <a:ext cx="112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9576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71800" y="1752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6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1952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17524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5146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16765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7672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2928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90920" y="14479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1447920"/>
            <a:ext cx="247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4479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048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4382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3716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14479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08560" y="137160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66688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1523880"/>
            <a:ext cx="11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9560" y="152388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152388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676520"/>
            <a:ext cx="1752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8800" y="167652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3280" y="1676520"/>
            <a:ext cx="124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44960" y="1676520"/>
            <a:ext cx="99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5200" y="167652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5296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767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19051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004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00400" y="1600200"/>
            <a:ext cx="130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1600200"/>
            <a:ext cx="146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4320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40040" y="1447920"/>
            <a:ext cx="831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184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14479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14600" y="152388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144792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42040" y="1523880"/>
            <a:ext cx="906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1240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1676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676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19520" y="19051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1905120"/>
            <a:ext cx="115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190512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1905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6668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26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940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09680" y="14479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89200" y="1447920"/>
            <a:ext cx="24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76320"/>
            <a:ext cx="9907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0856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523880"/>
            <a:ext cx="1104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-762120"/>
            <a:ext cx="99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238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288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288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8288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4:09:43Z</dcterms:created>
  <dc:creator>Administrator</dc:creator>
  <dc:description/>
  <dc:language>en-US</dc:language>
  <cp:lastModifiedBy>Jefferson-Lewis BOCES</cp:lastModifiedBy>
  <dcterms:modified xsi:type="dcterms:W3CDTF">2006-06-16T14:26:37Z</dcterms:modified>
  <cp:revision>44</cp:revision>
  <dc:subject/>
  <dc:title>PowerPoint Presentation</dc:title>
</cp:coreProperties>
</file>