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FE2-1550-4C26-A67E-5A82F792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3E8-90AC-4862-8C8E-1B1CA7AC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F59-B283-4F6F-937C-14BD3899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D59-EA25-4FA3-8A24-6303CD94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BFE-37DB-4ABE-A54E-ED391DCD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29D-DD77-47A2-81F4-4E85A7A1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41E-9317-4101-8047-5FADF988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667-9AF9-4F09-B02E-D7671D6D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6CD-B35F-43ED-9B0A-AADF9298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77E-1823-42CC-94A1-150D9F8E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1C5-02F8-4D14-AC32-AC34F5A1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102-22E6-4298-A5A6-30C3A345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382D-161A-4865-95AB-F674FEF31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Frequency Words 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List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76720" y="1219320"/>
            <a:ext cx="162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1219320"/>
            <a:ext cx="1629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123516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1080" y="1508040"/>
            <a:ext cx="274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530360"/>
            <a:ext cx="1776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153036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530360"/>
            <a:ext cx="213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530360"/>
            <a:ext cx="1471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14600" y="15080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15080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150804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150804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3623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152388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523880"/>
            <a:ext cx="165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43200" y="1447920"/>
            <a:ext cx="952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1447920"/>
            <a:ext cx="136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57880" y="1447920"/>
            <a:ext cx="952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447920"/>
            <a:ext cx="1904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14600" y="1523880"/>
            <a:ext cx="282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1523880"/>
            <a:ext cx="2314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158436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158436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66880" y="1752480"/>
            <a:ext cx="89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1752480"/>
            <a:ext cx="100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38720" y="1752480"/>
            <a:ext cx="1452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175248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9640" y="1692360"/>
            <a:ext cx="1158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1692360"/>
            <a:ext cx="15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7760" y="1676520"/>
            <a:ext cx="130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1676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38280" y="146376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146376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4479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14479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14479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438280" y="161604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161604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61604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16002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1692360"/>
            <a:ext cx="148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1692360"/>
            <a:ext cx="1320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692360"/>
            <a:ext cx="148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2760" y="1676520"/>
            <a:ext cx="1320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60840" y="1692360"/>
            <a:ext cx="1320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167652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33720" y="1797120"/>
            <a:ext cx="16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181296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181296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181296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18129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1296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0" y="1539720"/>
            <a:ext cx="1036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1523880"/>
            <a:ext cx="1036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5280" y="1523880"/>
            <a:ext cx="2073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15238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00200" y="158436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158436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6002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6002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584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15238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158436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14600" y="1660680"/>
            <a:ext cx="1582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1660680"/>
            <a:ext cx="115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46440" y="1660680"/>
            <a:ext cx="86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16606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16606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95480" y="1844640"/>
            <a:ext cx="97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1828800"/>
            <a:ext cx="14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86320" y="1844640"/>
            <a:ext cx="14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84464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90920" y="160020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1676520"/>
            <a:ext cx="868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166068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69000" y="167652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1676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1660680"/>
            <a:ext cx="130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164448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1644480"/>
            <a:ext cx="15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51320" y="1644480"/>
            <a:ext cx="15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6444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1644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09680" y="1387440"/>
            <a:ext cx="128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1371600"/>
            <a:ext cx="128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1371600"/>
            <a:ext cx="1125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137160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138744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14479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95480" y="1523880"/>
            <a:ext cx="1816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1584360"/>
            <a:ext cx="165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1584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160020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438280" y="1584360"/>
            <a:ext cx="1422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1584360"/>
            <a:ext cx="1422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15843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15685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15685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0" y="17683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17524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175248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75248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17683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0" y="1692360"/>
            <a:ext cx="165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1692360"/>
            <a:ext cx="1486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54480" y="1692360"/>
            <a:ext cx="1155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15080" y="1676520"/>
            <a:ext cx="148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167652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362320" y="14479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4479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57640" y="1447920"/>
            <a:ext cx="155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4479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43200" y="1523880"/>
            <a:ext cx="1270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1523880"/>
            <a:ext cx="101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152388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676520" y="1692360"/>
            <a:ext cx="101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169236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169236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1692360"/>
            <a:ext cx="1269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78440" y="1692360"/>
            <a:ext cx="888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08560" y="1676520"/>
            <a:ext cx="1397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169236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362320" y="1463760"/>
            <a:ext cx="2192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1463760"/>
            <a:ext cx="1992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30760" y="1447920"/>
            <a:ext cx="159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10160" y="1463760"/>
            <a:ext cx="1195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146376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84280" y="1539720"/>
            <a:ext cx="101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5397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1539720"/>
            <a:ext cx="165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1539720"/>
            <a:ext cx="1269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1539720"/>
            <a:ext cx="888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54760" y="1539720"/>
            <a:ext cx="1269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15397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15200" y="15397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505320" y="152388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152388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15397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43200" y="158436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5685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158436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1584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1584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666880" y="18892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18892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18892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188928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666880" y="1828800"/>
            <a:ext cx="196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1828800"/>
            <a:ext cx="22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1800" y="1828800"/>
            <a:ext cx="122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0600" y="1828800"/>
            <a:ext cx="22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1844640"/>
            <a:ext cx="122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1828800"/>
            <a:ext cx="2116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828800"/>
            <a:ext cx="100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76640" y="1828800"/>
            <a:ext cx="890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82880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971800" y="1676520"/>
            <a:ext cx="101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1676520"/>
            <a:ext cx="1397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173664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895480" y="161604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160020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1539720"/>
            <a:ext cx="80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1523880"/>
            <a:ext cx="80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21280" y="1523880"/>
            <a:ext cx="1212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76920" y="15397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48120" y="17683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75248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62440" y="1768320"/>
            <a:ext cx="952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0" y="1828800"/>
            <a:ext cx="204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4464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184464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184464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9092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17683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1752480"/>
            <a:ext cx="812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182880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590920" y="17683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17524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8120" y="16765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16765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16765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819520" y="1600200"/>
            <a:ext cx="128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160020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44920" y="1600200"/>
            <a:ext cx="965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0600" y="1600200"/>
            <a:ext cx="128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15238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514600" y="1463760"/>
            <a:ext cx="1490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146376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48320" y="146376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144792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124080" y="152388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1371600"/>
            <a:ext cx="118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143208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143208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743200" y="1676520"/>
            <a:ext cx="1092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1676520"/>
            <a:ext cx="54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1676520"/>
            <a:ext cx="97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2880" y="167652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16765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819520" y="1539720"/>
            <a:ext cx="149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523880"/>
            <a:ext cx="133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60760" y="1539720"/>
            <a:ext cx="133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15397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048120" y="152388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1523880"/>
            <a:ext cx="19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152388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895480" y="1311120"/>
            <a:ext cx="1687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1295280"/>
            <a:ext cx="1500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1311120"/>
            <a:ext cx="2438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590920" y="13111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3760" y="1311120"/>
            <a:ext cx="1454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21120" y="1311120"/>
            <a:ext cx="203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1320" y="129528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200400" y="123516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12193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121932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819520" y="12952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135576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135576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0" y="1692360"/>
            <a:ext cx="1353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1676520"/>
            <a:ext cx="169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1692360"/>
            <a:ext cx="186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24280" y="167652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167652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0" y="169236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16765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169236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2920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17683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4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8120" y="190512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19051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19051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38280" y="1463760"/>
            <a:ext cx="1235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14479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1447920"/>
            <a:ext cx="1234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84760" y="1463760"/>
            <a:ext cx="1235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14479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20574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205740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19810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1844640"/>
            <a:ext cx="116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67080" y="1844640"/>
            <a:ext cx="116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82880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90920" y="19810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1981080"/>
            <a:ext cx="284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735440" y="1981080"/>
            <a:ext cx="1893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981080"/>
            <a:ext cx="2210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9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920960"/>
            <a:ext cx="7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29000" y="1920960"/>
            <a:ext cx="554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2520" y="1996920"/>
            <a:ext cx="996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0440" y="1905120"/>
            <a:ext cx="996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15000" y="19051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073240"/>
            <a:ext cx="1160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35400" y="2057400"/>
            <a:ext cx="1160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49800" y="2057400"/>
            <a:ext cx="1160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57800" y="205740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1844640"/>
            <a:ext cx="2095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84464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24280" y="182880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184464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95480" y="1616040"/>
            <a:ext cx="1279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57600" y="160020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1600200"/>
            <a:ext cx="2378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62720" y="160020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161604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160020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160020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6002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15000" y="160020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19520" y="146376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57600" y="14479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67080" y="14479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14479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153972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91120" y="1523880"/>
            <a:ext cx="181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81480" y="1539720"/>
            <a:ext cx="19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1539720"/>
            <a:ext cx="1600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1523880"/>
            <a:ext cx="20001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523880"/>
            <a:ext cx="20001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1539720"/>
            <a:ext cx="20005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1523880"/>
            <a:ext cx="1600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523880"/>
            <a:ext cx="2200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1523880"/>
            <a:ext cx="2400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539720"/>
            <a:ext cx="1600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146376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144792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05520" y="14479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1692360"/>
            <a:ext cx="177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91120" y="1676520"/>
            <a:ext cx="1955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0" y="167652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16765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514600" y="1463760"/>
            <a:ext cx="1947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52680" y="1447920"/>
            <a:ext cx="1947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76880" y="1447920"/>
            <a:ext cx="1947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1447920"/>
            <a:ext cx="1752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57400" y="131112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12952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38480" y="12952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29200" y="12952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19920" y="12193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1463760"/>
            <a:ext cx="12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1447920"/>
            <a:ext cx="1467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9720" y="1447920"/>
            <a:ext cx="799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19680" y="1447920"/>
            <a:ext cx="12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14479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24080" y="150804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50804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5080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15080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00400" y="13111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13111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2952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8:07:08Z</dcterms:created>
  <dc:creator> </dc:creator>
  <dc:description/>
  <dc:language>en-US</dc:language>
  <cp:lastModifiedBy>Jefferson-Lewis BOCES</cp:lastModifiedBy>
  <dcterms:modified xsi:type="dcterms:W3CDTF">2006-06-16T14:26:55Z</dcterms:modified>
  <cp:revision>26</cp:revision>
  <dc:subject/>
  <dc:title>Frequency Words  List 5 </dc:title>
</cp:coreProperties>
</file>