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C37-A509-4882-B3AC-3B117861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B71-34B2-4C96-8D26-6242665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CD1-2F5B-4CE1-8D49-C574DAC2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61B-ED1E-4AC0-A278-F7E08FD1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203-76C8-4A7F-83B5-C03EEDE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347-C27F-4B6E-A740-EA8F837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63E-22A6-406D-80F1-31FB66D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C1F-EC18-4416-A598-CD39EDE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6DD-3570-4A5F-BC58-7DB521C6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3E6-53D7-4206-B684-2D1ECDC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B73-F445-4B1B-AFFE-530EEBF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D18-7779-41AE-A5F3-5E71A04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F1F4-4452-403C-8D42-271C9196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Frequency Words 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ist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6720" y="1219320"/>
            <a:ext cx="162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219320"/>
            <a:ext cx="1629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2351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508040"/>
            <a:ext cx="274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530360"/>
            <a:ext cx="177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5303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30360"/>
            <a:ext cx="213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30360"/>
            <a:ext cx="147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460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150804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62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388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3200" y="14479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447920"/>
            <a:ext cx="136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57880" y="1447920"/>
            <a:ext cx="952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44792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14600" y="1523880"/>
            <a:ext cx="28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523880"/>
            <a:ext cx="231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66880" y="1752480"/>
            <a:ext cx="89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752480"/>
            <a:ext cx="100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38720" y="1752480"/>
            <a:ext cx="1452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752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9640" y="1692360"/>
            <a:ext cx="115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69236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382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4637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8280" y="161604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6160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61604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16765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084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17971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1539720"/>
            <a:ext cx="1036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523880"/>
            <a:ext cx="103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5280" y="1523880"/>
            <a:ext cx="2073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15843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5843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1523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15843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660680"/>
            <a:ext cx="158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166068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6440" y="166068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184464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82880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6320" y="184464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9092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676520"/>
            <a:ext cx="868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16606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69000" y="167652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16606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1644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644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1644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38744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3716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37160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3874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1523880"/>
            <a:ext cx="1816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584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3828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5843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17683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7683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1692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1692360"/>
            <a:ext cx="148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4480" y="1692360"/>
            <a:ext cx="1155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15080" y="16765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6765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623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57640" y="1447920"/>
            <a:ext cx="15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3200" y="1523880"/>
            <a:ext cx="127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76520" y="169236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69236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78440" y="169236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856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169236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362320" y="1463760"/>
            <a:ext cx="2192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1463760"/>
            <a:ext cx="19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30760" y="1447920"/>
            <a:ext cx="159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0160" y="1463760"/>
            <a:ext cx="11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14637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84280" y="15397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153972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53972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476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5397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05320" y="1523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5238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43200" y="15843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568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584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688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8892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6880" y="1828800"/>
            <a:ext cx="196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1800" y="1828800"/>
            <a:ext cx="122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1844640"/>
            <a:ext cx="122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828800"/>
            <a:ext cx="211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828800"/>
            <a:ext cx="100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76640" y="1828800"/>
            <a:ext cx="890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71800" y="16765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17366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895480" y="161604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153972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52388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21280" y="1523880"/>
            <a:ext cx="121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15397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8120" y="17683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2440" y="17683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0" y="182880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909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752480"/>
            <a:ext cx="812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90920" y="17683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7524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8120" y="16765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1952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4920" y="160020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14600" y="14637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371600"/>
            <a:ext cx="118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4320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4320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743200" y="1676520"/>
            <a:ext cx="10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1676520"/>
            <a:ext cx="5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1676520"/>
            <a:ext cx="97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819520" y="15397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523880"/>
            <a:ext cx="133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60760" y="1539720"/>
            <a:ext cx="133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5397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81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152388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895480" y="1311120"/>
            <a:ext cx="1687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1295280"/>
            <a:ext cx="150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1311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90920" y="13111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3760" y="1311120"/>
            <a:ext cx="14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21120" y="1311120"/>
            <a:ext cx="203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12952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00400" y="123516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1219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12193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819520" y="1295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13557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35576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0" y="1692360"/>
            <a:ext cx="135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67652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9236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16923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169236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7683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44792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476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0574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20574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844640"/>
            <a:ext cx="116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1844640"/>
            <a:ext cx="116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19810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981080"/>
            <a:ext cx="284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35440" y="1981080"/>
            <a:ext cx="189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81080"/>
            <a:ext cx="221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920960"/>
            <a:ext cx="7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1920960"/>
            <a:ext cx="5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1996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0440" y="19051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905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7324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354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498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0574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844640"/>
            <a:ext cx="20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84464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182880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1616040"/>
            <a:ext cx="127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16002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1600200"/>
            <a:ext cx="2378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6160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6002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6002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146376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15397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152388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15397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539720"/>
            <a:ext cx="2000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52388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523880"/>
            <a:ext cx="2200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523880"/>
            <a:ext cx="240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14479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9236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1676520"/>
            <a:ext cx="195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1676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146376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144792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6880" y="1447920"/>
            <a:ext cx="194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4479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1311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2952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12952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12193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46376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1447920"/>
            <a:ext cx="1467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447920"/>
            <a:ext cx="79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19680" y="14479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15080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0400" y="1311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311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07:08Z</dcterms:created>
  <dc:creator> </dc:creator>
  <dc:description/>
  <dc:language>en-US</dc:language>
  <cp:lastModifiedBy>Jefferson-Lewis BOCES</cp:lastModifiedBy>
  <dcterms:modified xsi:type="dcterms:W3CDTF">2006-06-16T14:26:55Z</dcterms:modified>
  <cp:revision>26</cp:revision>
  <dc:subject/>
  <dc:title>Frequency Words  List 5 </dc:title>
</cp:coreProperties>
</file>