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4CC-3E98-4969-AB69-67D9B491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FC7-0C70-4512-AC8F-CD46BEE3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A96-D805-4DED-9887-17B5096F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A73-29A6-4939-9986-A9621A76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6B8-749A-45EE-A698-F3AFB985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9C1-7D23-424C-B0A9-A25B6F0A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AC3-057B-4390-934E-82D449C1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037-F9C7-4FFF-A7FF-68DD8A68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0F1-6094-4799-BFD7-9BC64762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C79-8575-4E44-A8E6-E658165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5F6-85AE-41C5-99AC-1C60EC59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943-FA76-49F3-956D-026473E7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3583-2593-46A3-9D06-FD8192A8D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.about.com/d/geology/1/0/d/V/biot_gran_reno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z.about.com/d/geology/1/0/Y/S/1/rocpicgneiss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ornfels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itt.edu/~cejones/GeoImages/6MetamorphicRocks/Quartzite/QuartziteNCXBed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z.about.com/d/geology/1/0/G/z/marble500.j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2/Metaconglomerate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tasagraphicarts.com/techmtn.html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itt.edu/~cejones/GeoImages/6MetamorphicRocks/Slate/SlateRedCUp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 Happy Birthday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i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ing Banding or Fol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5530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Gneiss started out 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72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ite Metamorphoses to Gnei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Quartz-Biotite Gran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447920"/>
            <a:ext cx="4305600" cy="4343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Makes up the lower cru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447920"/>
            <a:ext cx="4419720" cy="4352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ne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eiss Rock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1722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eiss foliations disto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483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3505320"/>
            <a:ext cx="9907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8077320" y="3429000"/>
            <a:ext cx="91440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ded Gneiss at Museum of Natural History, Manhat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Rock folds"/>
          <p:cNvPicPr/>
          <p:nvPr/>
        </p:nvPicPr>
        <p:blipFill>
          <a:blip r:embed="rId1"/>
          <a:stretch/>
        </p:blipFill>
        <p:spPr>
          <a:xfrm>
            <a:off x="1219320" y="1600200"/>
            <a:ext cx="5867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Foli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hracite Coal comes fr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al Metamorphoses to Anthrac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bituminous coal with fossils and sulpher"/>
          <p:cNvPicPr/>
          <p:nvPr/>
        </p:nvPicPr>
        <p:blipFill>
          <a:blip r:embed="rId1"/>
          <a:stretch/>
        </p:blipFill>
        <p:spPr>
          <a:xfrm>
            <a:off x="533520" y="2133720"/>
            <a:ext cx="3959280" cy="4190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360600" cy="4876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649116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4674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ac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Of Pennsylvania Coal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676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iated Metamorphic Roc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Al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Google Maps to see Pennsylv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nfels: from _____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523880"/>
            <a:ext cx="430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ite comes fr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943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ndstone Metamorphoses to Quartzi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343400" cy="36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60199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6095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ite with Cross-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523880"/>
            <a:ext cx="64771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ble comes fr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19720" cy="4040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2943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estone Metamorphoses to Mar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26744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Starts from limesto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600200"/>
            <a:ext cx="407664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5410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86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ded Marbl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am Valley, Ir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olded Marble, Maam Valley"/>
          <p:cNvPicPr/>
          <p:nvPr/>
        </p:nvPicPr>
        <p:blipFill>
          <a:blip r:embed="rId1"/>
          <a:stretch/>
        </p:blipFill>
        <p:spPr>
          <a:xfrm>
            <a:off x="12952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conglomerate comes from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File:Metaconglomera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lomerate Metamorphoses to Metaconglome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552680"/>
            <a:ext cx="4572000" cy="4467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86200" cy="4496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60958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lom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61722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conglom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 comes fro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tching of Pebbles in Metaconglome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762800" cy="495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29200" y="15238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2286000"/>
            <a:ext cx="381240" cy="533520"/>
          </a:xfrm>
          <a:custGeom>
            <a:avLst/>
            <a:gdLst>
              <a:gd name="textAreaLeft" fmla="*/ 0 w 381240"/>
              <a:gd name="textAreaRight" fmla="*/ 137520 w 3812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895480"/>
            <a:ext cx="380880" cy="2133720"/>
          </a:xfrm>
          <a:custGeom>
            <a:avLst/>
            <a:gdLst>
              <a:gd name="textAreaLeft" fmla="*/ 0 w 380880"/>
              <a:gd name="textAreaRight" fmla="*/ 13752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029200"/>
            <a:ext cx="304920" cy="533520"/>
          </a:xfrm>
          <a:custGeom>
            <a:avLst/>
            <a:gdLst>
              <a:gd name="textAreaLeft" fmla="*/ 0 w 304920"/>
              <a:gd name="textAreaRight" fmla="*/ 11016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56272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ble (Metamorphi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ble (Metamorphi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37339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ase (Igneous Intrus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1676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estone (Sedimentar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791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estone (Sedimentar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contact metamorphism, igneous dike, Raton volcanic field&#13;&#10;               &#9; photo"/>
          <p:cNvPicPr/>
          <p:nvPr/>
        </p:nvPicPr>
        <p:blipFill>
          <a:blip r:embed="rId1"/>
          <a:stretch/>
        </p:blipFill>
        <p:spPr>
          <a:xfrm>
            <a:off x="990720" y="1600200"/>
            <a:ext cx="6858000" cy="456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81080" y="2362320"/>
            <a:ext cx="53352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d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16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1981080"/>
            <a:ext cx="45720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1676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usion of 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04960" y="19810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85840" y="2286000"/>
            <a:ext cx="76212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d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876560" y="3581280"/>
            <a:ext cx="1600200" cy="1219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514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ll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419360" y="2743200"/>
            <a:ext cx="99036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ding of Rock du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Tasa Photo CD-ROM: Tectonics and Mountain Buil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e Metamorphoses to S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ossil seed fern leaf"/>
          <p:cNvPicPr/>
          <p:nvPr/>
        </p:nvPicPr>
        <p:blipFill>
          <a:blip r:embed="rId1"/>
          <a:stretch/>
        </p:blipFill>
        <p:spPr>
          <a:xfrm>
            <a:off x="457200" y="1600200"/>
            <a:ext cx="3962520" cy="375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600200"/>
            <a:ext cx="319248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486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Fossil S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5627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 Roofing 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400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628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lite is shiny b/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667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st from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762440" cy="3752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st has shiny, platy, flaky __________ cry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l Park Schist showing Glacial scrat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4:51Z</dcterms:created>
  <dc:creator>User</dc:creator>
  <dc:description/>
  <dc:language>en-US</dc:language>
  <cp:lastModifiedBy>User</cp:lastModifiedBy>
  <dcterms:modified xsi:type="dcterms:W3CDTF">2010-05-19T17:00:52Z</dcterms:modified>
  <cp:revision>6</cp:revision>
  <dc:subject/>
  <dc:title>Slide 1</dc:title>
</cp:coreProperties>
</file>