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384-5E25-43C0-B418-8479C766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E0D-4120-4BD8-82BF-6461C0B1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339-4AAC-4207-B5DE-74630BA8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BE7-9760-43DC-9685-B6C75155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454-B5F7-47F7-91A2-00C003DF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69C-564A-40F9-A1E2-B18C2981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229-29CB-4715-BEF7-DA0D3B08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0D9-6C2C-422A-9104-CEEC8B98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C51-171D-443E-B2AA-6D8684A5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DC8-0A6A-4C37-9E54-D2A02108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AF2-3712-49FD-AB67-5A9633E4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E41-26A9-4E37-B339-51F428F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E8BD-2919-404A-92AA-DA24723AD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.about.com/d/geology/1/0/d/V/biot_gran_reno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z.about.com/d/geology/1/0/Y/S/1/rocpicgneiss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rnfels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itt.edu/~cejones/GeoImages/6MetamorphicRocks/Quartzite/QuartziteNCXBed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z.about.com/d/geology/1/0/G/z/marble500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2/Metaconglomerate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asagraphicarts.com/techmtn.html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tt.edu/~cejones/GeoImages/6MetamorphicRocks/Slate/SlateRedCUp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 Happy Birthday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i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ing Banding or Fol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553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Gneiss started out 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72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ite Metamorphoses to Gne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Quartz-Biotite Gran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447920"/>
            <a:ext cx="430560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Makes up the lower cru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447920"/>
            <a:ext cx="4419720" cy="4352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ne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Rock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1722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foliations dist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83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3505320"/>
            <a:ext cx="9907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077320" y="3429000"/>
            <a:ext cx="91440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ed Gneiss at Museum of Natural History, Manhat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Rock folds"/>
          <p:cNvPicPr/>
          <p:nvPr/>
        </p:nvPicPr>
        <p:blipFill>
          <a:blip r:embed="rId1"/>
          <a:stretch/>
        </p:blipFill>
        <p:spPr>
          <a:xfrm>
            <a:off x="1219320" y="1600200"/>
            <a:ext cx="5867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Foli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racite Coal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 Metamorphoses to Anthrac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bituminous coal with fossils and sulpher"/>
          <p:cNvPicPr/>
          <p:nvPr/>
        </p:nvPicPr>
        <p:blipFill>
          <a:blip r:embed="rId1"/>
          <a:stretch/>
        </p:blipFill>
        <p:spPr>
          <a:xfrm>
            <a:off x="533520" y="2133720"/>
            <a:ext cx="3959280" cy="4190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360600" cy="487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649116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4674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a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Of Pennsylvania Coal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676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iated Metamorphic Roc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Google Maps to see Pennsylv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nfels: from _____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523880"/>
            <a:ext cx="430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943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ndstone Metamorphoses to Quartzi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343400" cy="36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60199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 with Cross-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523880"/>
            <a:ext cx="64771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ble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19720" cy="4040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2943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estone Metamorphoses to Mar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26744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Starts from limesto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00200"/>
            <a:ext cx="407664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5410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ed Marbl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am Valley, Ir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olded Marble, Maam Valley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conglomerate comes fro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File:Metaconglomera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lomerate Metamorphoses to Metaconglom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52680"/>
            <a:ext cx="4572000" cy="4467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86200" cy="4496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6095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617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conglom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 comes fro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tching of Pebbles in Metaconglom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762800" cy="495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29200" y="15238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286000"/>
            <a:ext cx="381240" cy="533520"/>
          </a:xfrm>
          <a:custGeom>
            <a:avLst/>
            <a:gdLst>
              <a:gd name="textAreaLeft" fmla="*/ 0 w 381240"/>
              <a:gd name="textAreaRight" fmla="*/ 137520 w 3812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895480"/>
            <a:ext cx="380880" cy="2133720"/>
          </a:xfrm>
          <a:custGeom>
            <a:avLst/>
            <a:gdLst>
              <a:gd name="textAreaLeft" fmla="*/ 0 w 380880"/>
              <a:gd name="textAreaRight" fmla="*/ 13752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02920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5627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ble (Metamorph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ble (Metamorph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37339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ase (Igneous Intrus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1676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stone (Sedimentar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791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stone (Sedimentar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contact metamorphism, igneous dike, Raton volcanic field&#13;&#10;               &#9; photo"/>
          <p:cNvPicPr/>
          <p:nvPr/>
        </p:nvPicPr>
        <p:blipFill>
          <a:blip r:embed="rId1"/>
          <a:stretch/>
        </p:blipFill>
        <p:spPr>
          <a:xfrm>
            <a:off x="990720" y="1600200"/>
            <a:ext cx="6858000" cy="456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81080" y="2362320"/>
            <a:ext cx="53352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1981080"/>
            <a:ext cx="45720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1676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usion of 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04960" y="19810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85840" y="2286000"/>
            <a:ext cx="76212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876560" y="3581280"/>
            <a:ext cx="160020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514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ll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419360" y="2743200"/>
            <a:ext cx="99036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ing of Rock du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Tasa Photo CD-ROM: Tectonics and Mountain Buil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 Metamorphoses to S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ossil seed fern leaf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7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600200"/>
            <a:ext cx="319248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86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Fossil S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5627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 Roofing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400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62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lite is shiny b/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667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st from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76244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st has shiny, platy, flaky __________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 Park Schist showing Glacial scrat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4:51Z</dcterms:created>
  <dc:creator>User</dc:creator>
  <dc:description/>
  <dc:language>en-US</dc:language>
  <cp:lastModifiedBy>User</cp:lastModifiedBy>
  <dcterms:modified xsi:type="dcterms:W3CDTF">2010-05-19T17:00:52Z</dcterms:modified>
  <cp:revision>6</cp:revision>
  <dc:subject/>
  <dc:title>Slide 1</dc:title>
</cp:coreProperties>
</file>