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940-C04C-4E06-BD96-8C87DEF9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4B5-DA8B-41E0-B933-02AA0236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F7E-A820-4263-8971-F19EA1C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F2D-3DA1-4EEB-8011-A29D31A6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66A-7FB4-418C-8D4C-73A424D1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FAA-4F1D-4CBC-BFE0-206BBA49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190-9FB3-4F23-9258-056EAFCD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C21-CB53-4C63-9723-AF06B7F7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2B4-FEED-4F8F-A844-08FCD5E5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176-E902-4243-BA06-9AF6C69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BFE-9687-4BF2-98D7-AF1C246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F89-6F02-47F3-A733-A6F361E6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7FD-F4CC-48DD-931B-F8BDC5964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z.about.com/d/geology/1/0/d/V/biot_gran_reno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z.about.com/d/geology/1/0/Y/S/1/rocpicgneiss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rnfel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pitt.edu/~cejones/GeoImages/6MetamorphicRocks/Quartzite/QuartziteNCXBed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z.about.com/d/geology/1/0/G/z/marble500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2/Metaconglomerate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tasagraphicarts.com/techmtn.html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pitt.edu/~cejones/GeoImages/6MetamorphicRocks/Slate/SlateRedCUp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ot Happy Birthday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i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wing Banding or Fol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553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Gneiss started out 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721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ite Metamorphoses to Gnei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Quartz-Biotite Gran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447920"/>
            <a:ext cx="4305600" cy="4343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Makes up the lower cru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447920"/>
            <a:ext cx="4419720" cy="4352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6019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ne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Rock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1722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neiss foliations dist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835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3505320"/>
            <a:ext cx="9907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8077320" y="3429000"/>
            <a:ext cx="91440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Gneiss at Museum of Natural History, Manhat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Rock folds"/>
          <p:cNvPicPr/>
          <p:nvPr/>
        </p:nvPicPr>
        <p:blipFill>
          <a:blip r:embed="rId1"/>
          <a:stretch/>
        </p:blipFill>
        <p:spPr>
          <a:xfrm>
            <a:off x="1219320" y="1600200"/>
            <a:ext cx="5867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Foli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hracite Coal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19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 Metamorphoses to Anthrac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bituminous coal with fossils and sulpher"/>
          <p:cNvPicPr/>
          <p:nvPr/>
        </p:nvPicPr>
        <p:blipFill>
          <a:blip r:embed="rId1"/>
          <a:stretch/>
        </p:blipFill>
        <p:spPr>
          <a:xfrm>
            <a:off x="533520" y="2133720"/>
            <a:ext cx="3959280" cy="4190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1523880"/>
            <a:ext cx="3360600" cy="4876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649116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4674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a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Pennsylvania Coal F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0676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iated Metamorphic Roc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Al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Google Maps to see Pennsylv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nfels: from _____ metamorph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523880"/>
            <a:ext cx="430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9436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ndstone Metamorphoses to Quartzi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343400" cy="36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80880" y="6019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rtzite with Cross-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523880"/>
            <a:ext cx="647712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ble comes fr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19720" cy="4040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2943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estone Metamorphoses to 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26744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Starts from limesto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00200"/>
            <a:ext cx="407664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54100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ed Marble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am Valley, Ir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olded Marble, Maam Valley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conglomerate comes from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File:Metaconglomer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lomerate Metamorphoses to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552680"/>
            <a:ext cx="4572000" cy="4467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886200" cy="4496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609588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61722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conglom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comes fro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tching of Pebbles in Metaconglome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3817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762800" cy="4953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29200" y="152388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286000"/>
            <a:ext cx="381240" cy="533520"/>
          </a:xfrm>
          <a:custGeom>
            <a:avLst/>
            <a:gdLst>
              <a:gd name="textAreaLeft" fmla="*/ 0 w 381240"/>
              <a:gd name="textAreaRight" fmla="*/ 137520 w 3812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895480"/>
            <a:ext cx="380880" cy="2133720"/>
          </a:xfrm>
          <a:custGeom>
            <a:avLst/>
            <a:gdLst>
              <a:gd name="textAreaLeft" fmla="*/ 0 w 380880"/>
              <a:gd name="textAreaRight" fmla="*/ 13752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02920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5627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ble (Metamorph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37339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ase (Igneous Intrus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16765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5791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estone (Sedimentar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contact metamorphism, igneous dike, Raton volcanic field&#13;&#10;               &#9; photo"/>
          <p:cNvPicPr/>
          <p:nvPr/>
        </p:nvPicPr>
        <p:blipFill>
          <a:blip r:embed="rId1"/>
          <a:stretch/>
        </p:blipFill>
        <p:spPr>
          <a:xfrm>
            <a:off x="990720" y="1600200"/>
            <a:ext cx="685800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81080" y="2362320"/>
            <a:ext cx="53352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057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1600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1981080"/>
            <a:ext cx="457200" cy="2210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1676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rusion of Gab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04960" y="1981080"/>
            <a:ext cx="53316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rtz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85840" y="2286000"/>
            <a:ext cx="7621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d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876560" y="3581280"/>
            <a:ext cx="160020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514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419360" y="2743200"/>
            <a:ext cx="99036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eta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lding of Rock dur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Bui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Tasa Photo CD-ROM: Tectonics and Mountain Buil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7543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e Metamorphoses to 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fossil seed fern leaf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754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600200"/>
            <a:ext cx="319248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5486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Fossil Sh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5562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 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 Roofing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4008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62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llite is shiny b/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667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st from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62440" cy="3752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st has shiny, platy, flaky __________ crys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 Park Schist showing Glacial scr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08644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7:14:51Z</dcterms:created>
  <dc:creator>User</dc:creator>
  <dc:description/>
  <dc:language>en-US</dc:language>
  <cp:lastModifiedBy>User</cp:lastModifiedBy>
  <dcterms:modified xsi:type="dcterms:W3CDTF">2010-05-19T17:00:52Z</dcterms:modified>
  <cp:revision>6</cp:revision>
  <dc:subject/>
  <dc:title>Slide 1</dc:title>
</cp:coreProperties>
</file>