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5F8-CC92-490B-8B8D-4A67E3FF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1E2-6607-4AB6-9E4B-0404B8D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7E8-1720-4FF4-BD7C-630EFEBB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AE2-7552-4257-930D-2EBEEB45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9F2-F136-4D44-B186-54E95459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596-7EA1-4ECB-9D4C-3FE367E1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80D-4ED8-4C26-82FA-3E7A6BE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2D0-2E44-4A67-9F73-ECFB5C1F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93B-6F9F-4A5A-8DE3-1152666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DDA-AD20-4ED2-AEE4-10FD6CF2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012-F640-4073-8C1B-D5E67FB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5F6-178D-43FA-8465-0F55BDC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6EE4-FCD4-4686-9BC1-5E8D7244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books.org/w/index.php?title=File:GraphiteUSGOV.jpg&amp;filetimestamp=2005052707133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phite_ambient_STM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f/Graphite-layers-side-3D-balls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8098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Sulfur Speciman"/>
          <p:cNvPicPr/>
          <p:nvPr/>
        </p:nvPicPr>
        <p:blipFill>
          <a:blip r:embed="rId1"/>
          <a:stretch/>
        </p:blipFill>
        <p:spPr>
          <a:xfrm>
            <a:off x="1676520" y="1676520"/>
            <a:ext cx="58388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938240"/>
            <a:ext cx="38102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ovite 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ite 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Black mica"/>
          <p:cNvPicPr/>
          <p:nvPr/>
        </p:nvPicPr>
        <p:blipFill>
          <a:blip r:embed="rId1"/>
          <a:stretch/>
        </p:blipFill>
        <p:spPr>
          <a:xfrm>
            <a:off x="2209680" y="1828800"/>
            <a:ext cx="4762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o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29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Large Fluorite Image"/>
          <p:cNvPicPr/>
          <p:nvPr/>
        </p:nvPicPr>
        <p:blipFill>
          <a:blip r:embed="rId2"/>
          <a:stretch/>
        </p:blipFill>
        <p:spPr>
          <a:xfrm>
            <a:off x="1295280" y="1600200"/>
            <a:ext cx="601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4007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333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9245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nblende (Amphibo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87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assium Felds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1814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gioclase Felds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25780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197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photo of a chunk of raw quartz"/>
          <p:cNvPicPr/>
          <p:nvPr/>
        </p:nvPicPr>
        <p:blipFill>
          <a:blip r:embed="rId1"/>
          <a:stretch/>
        </p:blipFill>
        <p:spPr>
          <a:xfrm>
            <a:off x="4572000" y="198108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New Hampshire state gem"/>
          <p:cNvPicPr/>
          <p:nvPr/>
        </p:nvPicPr>
        <p:blipFill>
          <a:blip r:embed="rId2"/>
          <a:stretch/>
        </p:blipFill>
        <p:spPr>
          <a:xfrm>
            <a:off x="914400" y="1752480"/>
            <a:ext cx="28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kimer Diamond (quart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1862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te Under a Micr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286000"/>
            <a:ext cx="46483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te Atoms Arranged in She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Graphite-layers-side-3D-ball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181160"/>
            <a:ext cx="7619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File:GalenaKansas.jpg"/>
          <p:cNvPicPr/>
          <p:nvPr/>
        </p:nvPicPr>
        <p:blipFill>
          <a:blip r:embed="rId1"/>
          <a:stretch/>
        </p:blipFill>
        <p:spPr>
          <a:xfrm>
            <a:off x="1828800" y="1676520"/>
            <a:ext cx="5715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File:Magnetite444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Pyrite foolsgold.jpg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Hematite (so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8769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Hematite (ha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193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18:45Z</dcterms:created>
  <dc:creator>User</dc:creator>
  <dc:description/>
  <dc:language>en-US</dc:language>
  <cp:lastModifiedBy>User</cp:lastModifiedBy>
  <dcterms:modified xsi:type="dcterms:W3CDTF">2010-05-13T14:07:23Z</dcterms:modified>
  <cp:revision>5</cp:revision>
  <dc:subject/>
  <dc:title>Minerals</dc:title>
</cp:coreProperties>
</file>