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9E7-E11F-4512-A99C-EE6A1E7A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9EF-B592-480A-B7A5-093BB566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32B-9A84-425F-9F58-4CA7AA7E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4B7-0927-42CF-ADE7-9FAE715E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BE1-B9FD-4A4B-921A-EA39254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5119-32B7-4EE3-A6EC-6916F512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AE2-1A3E-42D3-ADA9-02AD3603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003-09CC-45FB-A833-9A2EBEA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63A-A7C9-41CD-B71A-9152E05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DDB-2D75-4750-BA00-816D62FD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CE78-80C5-4E35-9C58-D326538F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EE8-E119-40DD-A95C-765E3669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C952-DEEF-453B-B1BA-7D5CD2850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books.org/w/index.php?title=File:GraphiteUSGOV.jpg&amp;filetimestamp=2005052707133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phite_ambient_STM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f/Graphite-layers-side-3D-balls.pn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8098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Sulfur Speciman"/>
          <p:cNvPicPr/>
          <p:nvPr/>
        </p:nvPicPr>
        <p:blipFill>
          <a:blip r:embed="rId1"/>
          <a:stretch/>
        </p:blipFill>
        <p:spPr>
          <a:xfrm>
            <a:off x="1676520" y="1676520"/>
            <a:ext cx="58388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66880" y="1938240"/>
            <a:ext cx="38102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ovite 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0962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lack mica"/>
          <p:cNvPicPr/>
          <p:nvPr/>
        </p:nvPicPr>
        <p:blipFill>
          <a:blip r:embed="rId1"/>
          <a:stretch/>
        </p:blipFill>
        <p:spPr>
          <a:xfrm>
            <a:off x="2209680" y="1828800"/>
            <a:ext cx="47628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7220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lo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2293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Large Fluorite Image"/>
          <p:cNvPicPr/>
          <p:nvPr/>
        </p:nvPicPr>
        <p:blipFill>
          <a:blip r:embed="rId2"/>
          <a:stretch/>
        </p:blipFill>
        <p:spPr>
          <a:xfrm>
            <a:off x="1295280" y="1600200"/>
            <a:ext cx="601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ox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40072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057400"/>
            <a:ext cx="3333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92452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nblende (Amphibo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487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Felds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1814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gioclase Felds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25780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197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photo of a chunk of raw quartz"/>
          <p:cNvPicPr/>
          <p:nvPr/>
        </p:nvPicPr>
        <p:blipFill>
          <a:blip r:embed="rId1"/>
          <a:stretch/>
        </p:blipFill>
        <p:spPr>
          <a:xfrm>
            <a:off x="4572000" y="1981080"/>
            <a:ext cx="3429000" cy="3048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New Hampshire state gem"/>
          <p:cNvPicPr/>
          <p:nvPr/>
        </p:nvPicPr>
        <p:blipFill>
          <a:blip r:embed="rId2"/>
          <a:stretch/>
        </p:blipFill>
        <p:spPr>
          <a:xfrm>
            <a:off x="914400" y="1752480"/>
            <a:ext cx="2857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kimer Diamond (quart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1862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003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te Under a Micr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286000"/>
            <a:ext cx="46483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te Atoms Arranged in She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Graphite-layers-side-3D-balls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181160"/>
            <a:ext cx="76197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File:GalenaKansas.jpg"/>
          <p:cNvPicPr/>
          <p:nvPr/>
        </p:nvPicPr>
        <p:blipFill>
          <a:blip r:embed="rId1"/>
          <a:stretch/>
        </p:blipFill>
        <p:spPr>
          <a:xfrm>
            <a:off x="1828800" y="1676520"/>
            <a:ext cx="5715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net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File:Magnetite444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7712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ile:Pyrite foolsgold.jpg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matite (sof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4876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Hematite (ha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1936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5:18:45Z</dcterms:created>
  <dc:creator>User</dc:creator>
  <dc:description/>
  <dc:language>en-US</dc:language>
  <cp:lastModifiedBy>User</cp:lastModifiedBy>
  <dcterms:modified xsi:type="dcterms:W3CDTF">2010-05-13T14:07:23Z</dcterms:modified>
  <cp:revision>5</cp:revision>
  <dc:subject/>
  <dc:title>Minerals</dc:title>
</cp:coreProperties>
</file>