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C5B-E9A7-4B99-97DB-55CED3A0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0C0-7393-4F3E-AAE1-09610180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384-7200-4940-85CF-CB209849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8DC5-33DD-4302-9C66-E30E0879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16F-FDBB-40C0-8E12-F56F8E01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F68-1EDD-4409-A255-805B164B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158-5835-48F0-A14B-4B4DB479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3A0-1FF0-4424-B3F4-20024F2A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B5E-30FD-43BC-BF3F-19AC5EAE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F79-F0F2-424D-AA17-7F27DF10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2B6-FE40-43DF-9EBD-8CB707E1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F16-4E20-4898-9448-2BBFD371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D4E3-9969-462F-A3B3-51C77380F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books.org/w/index.php?title=File:GraphiteUSGOV.jpg&amp;filetimestamp=2005052707133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Graphite_ambient_STM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f/Graphite-layers-side-3D-balls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8098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lf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Sulfur Speciman"/>
          <p:cNvPicPr/>
          <p:nvPr/>
        </p:nvPicPr>
        <p:blipFill>
          <a:blip r:embed="rId1"/>
          <a:stretch/>
        </p:blipFill>
        <p:spPr>
          <a:xfrm>
            <a:off x="1676520" y="1676520"/>
            <a:ext cx="58388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6880" y="1938240"/>
            <a:ext cx="38102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ovite 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0962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9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tite 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Black mica"/>
          <p:cNvPicPr/>
          <p:nvPr/>
        </p:nvPicPr>
        <p:blipFill>
          <a:blip r:embed="rId1"/>
          <a:stretch/>
        </p:blipFill>
        <p:spPr>
          <a:xfrm>
            <a:off x="2209680" y="1828800"/>
            <a:ext cx="47628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lom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2293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Large Fluorite Image"/>
          <p:cNvPicPr/>
          <p:nvPr/>
        </p:nvPicPr>
        <p:blipFill>
          <a:blip r:embed="rId2"/>
          <a:stretch/>
        </p:blipFill>
        <p:spPr>
          <a:xfrm>
            <a:off x="1295280" y="1600200"/>
            <a:ext cx="6019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ox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40072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057400"/>
            <a:ext cx="33339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phib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59245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nblende (Amphibo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4873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assium Feldsp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18148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gioclase Feldsp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25780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31972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photo of a chunk of raw quartz"/>
          <p:cNvPicPr/>
          <p:nvPr/>
        </p:nvPicPr>
        <p:blipFill>
          <a:blip r:embed="rId1"/>
          <a:stretch/>
        </p:blipFill>
        <p:spPr>
          <a:xfrm>
            <a:off x="4572000" y="1981080"/>
            <a:ext cx="3429000" cy="3048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New Hampshire state gem"/>
          <p:cNvPicPr/>
          <p:nvPr/>
        </p:nvPicPr>
        <p:blipFill>
          <a:blip r:embed="rId2"/>
          <a:stretch/>
        </p:blipFill>
        <p:spPr>
          <a:xfrm>
            <a:off x="914400" y="1752480"/>
            <a:ext cx="28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kimer Diamond (quart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18624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4000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te Under a Micro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286000"/>
            <a:ext cx="46483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te Atoms Arranged in She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File:Graphite-layers-side-3D-balls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181160"/>
            <a:ext cx="7619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File:GalenaKansas.jpg"/>
          <p:cNvPicPr/>
          <p:nvPr/>
        </p:nvPicPr>
        <p:blipFill>
          <a:blip r:embed="rId1"/>
          <a:stretch/>
        </p:blipFill>
        <p:spPr>
          <a:xfrm>
            <a:off x="1828800" y="1676520"/>
            <a:ext cx="5715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net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File:Magnetite444.jpg"/>
          <p:cNvPicPr/>
          <p:nvPr/>
        </p:nvPicPr>
        <p:blipFill>
          <a:blip r:embed="rId1"/>
          <a:stretch/>
        </p:blipFill>
        <p:spPr>
          <a:xfrm>
            <a:off x="1371600" y="1523880"/>
            <a:ext cx="647712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ile:Pyrite foolsgold.jpg"/>
          <p:cNvPicPr/>
          <p:nvPr/>
        </p:nvPicPr>
        <p:blipFill>
          <a:blip r:embed="rId1"/>
          <a:stretch/>
        </p:blipFill>
        <p:spPr>
          <a:xfrm>
            <a:off x="1295280" y="1371600"/>
            <a:ext cx="65534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Hematite (sof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48769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ck Hematite (har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41936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5:18:45Z</dcterms:created>
  <dc:creator>User</dc:creator>
  <dc:description/>
  <dc:language>en-US</dc:language>
  <cp:lastModifiedBy>User</cp:lastModifiedBy>
  <dcterms:modified xsi:type="dcterms:W3CDTF">2010-05-13T14:07:23Z</dcterms:modified>
  <cp:revision>5</cp:revision>
  <dc:subject/>
  <dc:title>Minerals</dc:title>
</cp:coreProperties>
</file>