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B70E-E621-4D19-A22A-BBF7ABB3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C92E-6367-4A04-9E0D-ACFC9C8E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8F4-20CC-4FB8-B921-A75B94AC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B754-1EE0-44FA-9CC6-5A0F5778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E624-75AD-4CAB-9DBE-06D6EE80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80C3-2BC2-49BC-8507-C1D52AA5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D472-0A0A-4059-865F-C2177491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BBE5-971A-4E4A-AB3A-AF45F9AB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D0C7-1400-45B2-A859-B61655BA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710A-7DA9-4298-B35A-F68F4BD3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1004-D58C-425A-9EE6-06C1AC7F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6776-00FD-4504-85A3-90510233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E8D8-54D4-4587-A135-FD0C15244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dimentary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 Gy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90720" y="59436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er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lost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dolostone with interbedded shale in the Powell Foramtion"/>
          <p:cNvPicPr/>
          <p:nvPr/>
        </p:nvPicPr>
        <p:blipFill>
          <a:blip r:embed="rId1"/>
          <a:stretch/>
        </p:blipFill>
        <p:spPr>
          <a:xfrm>
            <a:off x="1676520" y="1600200"/>
            <a:ext cx="5838840" cy="3867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57913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er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clastic Sedimentary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estone from cemented shells or precip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 from decayed plant re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4410360" cy="4543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5791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er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96360" cy="4695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43000" y="5715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er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tic Sedimentary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menting of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lom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800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c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Breccia.jpg (9440 bytes)"/>
          <p:cNvPicPr/>
          <p:nvPr/>
        </p:nvPicPr>
        <p:blipFill>
          <a:blip r:embed="rId1"/>
          <a:stretch/>
        </p:blipFill>
        <p:spPr>
          <a:xfrm>
            <a:off x="2209680" y="1905120"/>
            <a:ext cx="40388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dst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sandstone photo"/>
          <p:cNvPicPr/>
          <p:nvPr/>
        </p:nvPicPr>
        <p:blipFill>
          <a:blip r:embed="rId1"/>
          <a:stretch/>
        </p:blipFill>
        <p:spPr>
          <a:xfrm>
            <a:off x="1752480" y="1600200"/>
            <a:ext cx="609624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0102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tst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55627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stalline Sedimentary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poration of sea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ipitation of minerals from sea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 Sa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76520" y="548640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er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7:12:45Z</dcterms:created>
  <dc:creator>User</dc:creator>
  <dc:description/>
  <dc:language>en-US</dc:language>
  <cp:lastModifiedBy>User</cp:lastModifiedBy>
  <dcterms:modified xsi:type="dcterms:W3CDTF">2010-05-05T17:29:30Z</dcterms:modified>
  <cp:revision>2</cp:revision>
  <dc:subject/>
  <dc:title>Conglomerate</dc:title>
</cp:coreProperties>
</file>