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19C3-EBA6-4E62-8138-70B2ABA7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1AC9-589F-46B6-8C1D-DBA3B33E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966B-1A5F-441B-8C92-031803F09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706D-209F-45FB-81D0-8892A23F4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B706-565B-408E-A895-CA22AB1A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140C-F30E-4A92-BA5F-F1E2E1DB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F6C7-DFC4-47D5-9051-74B8D363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266C-D1A9-45C0-AFDE-565E0801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0460-D7E9-48B6-8D71-5014C77A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7A2B-4A16-4C95-971A-2BF0BE4A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EB54-4B47-4220-908A-D3CED428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40A4-5370-4AF7-BA29-418B6227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B212-975C-4B9D-9614-21706334A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dimentary 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k Gy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90720" y="59436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er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lost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dolostone with interbedded shale in the Powell Foramtion"/>
          <p:cNvPicPr/>
          <p:nvPr/>
        </p:nvPicPr>
        <p:blipFill>
          <a:blip r:embed="rId1"/>
          <a:stretch/>
        </p:blipFill>
        <p:spPr>
          <a:xfrm>
            <a:off x="1676520" y="1600200"/>
            <a:ext cx="5838840" cy="3867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43000" y="57913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er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clastic Sedimentary 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estone from cemented shells or precip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l from decayed plant rem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1219320"/>
            <a:ext cx="4410360" cy="4543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" y="57913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er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96360" cy="4695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43000" y="57150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er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tic Sedimentary 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menting of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lom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4800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c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Breccia.jpg (9440 bytes)"/>
          <p:cNvPicPr/>
          <p:nvPr/>
        </p:nvPicPr>
        <p:blipFill>
          <a:blip r:embed="rId1"/>
          <a:stretch/>
        </p:blipFill>
        <p:spPr>
          <a:xfrm>
            <a:off x="2209680" y="1905120"/>
            <a:ext cx="40388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ndst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sandstone photo"/>
          <p:cNvPicPr/>
          <p:nvPr/>
        </p:nvPicPr>
        <p:blipFill>
          <a:blip r:embed="rId1"/>
          <a:stretch/>
        </p:blipFill>
        <p:spPr>
          <a:xfrm>
            <a:off x="1752480" y="1600200"/>
            <a:ext cx="609624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0102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ltst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556272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ystalline Sedimentary 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poration of sea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ipitation of minerals from sea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k Sa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76520" y="548640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er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7:12:45Z</dcterms:created>
  <dc:creator>User</dc:creator>
  <dc:description/>
  <dc:language>en-US</dc:language>
  <cp:lastModifiedBy>User</cp:lastModifiedBy>
  <dcterms:modified xsi:type="dcterms:W3CDTF">2010-05-05T17:29:30Z</dcterms:modified>
  <cp:revision>2</cp:revision>
  <dc:subject/>
  <dc:title>Conglomerate</dc:title>
</cp:coreProperties>
</file>