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C574-4E42-41A2-9C88-F8B7526F5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C042-2D62-4725-A9D6-596C8BF10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FCE7-0256-4146-AE36-9F6768D1F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D3DB-083F-438D-A7B0-17F4EDEAC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319F-1071-4102-ABA8-808AAAFE6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94C8-CA3D-471A-94B9-93D6B5A66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1E85-4E97-43BB-8155-FDBBE1EA6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9E7A-8266-4556-A284-4FEDF03A8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2848-CCC0-4CDF-B90D-4DCE81A82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61A4-E154-4911-8153-B323598D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9276-B0B8-4F4F-99E6-6FE406DA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91B6-2355-4C2B-B8DD-709A36B5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AACC2-0F0F-48CB-AA3A-DEC601B570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dimentary Ro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ck Gy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90720" y="594360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ner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lost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dolostone with interbedded shale in the Powell Foramtion"/>
          <p:cNvPicPr/>
          <p:nvPr/>
        </p:nvPicPr>
        <p:blipFill>
          <a:blip r:embed="rId1"/>
          <a:stretch/>
        </p:blipFill>
        <p:spPr>
          <a:xfrm>
            <a:off x="1676520" y="1600200"/>
            <a:ext cx="5838840" cy="3867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143000" y="57913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ner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clastic Sedimentary Ro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estone from cemented shells or precip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al from decayed plant rem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est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38280" y="1219320"/>
            <a:ext cx="4410360" cy="45432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85800" y="57913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ner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696360" cy="46958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143000" y="57150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ner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tic Sedimentary Ro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menting of p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glom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14600" y="1828800"/>
            <a:ext cx="48006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c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Breccia.jpg (9440 bytes)"/>
          <p:cNvPicPr/>
          <p:nvPr/>
        </p:nvPicPr>
        <p:blipFill>
          <a:blip r:embed="rId1"/>
          <a:stretch/>
        </p:blipFill>
        <p:spPr>
          <a:xfrm>
            <a:off x="2209680" y="1905120"/>
            <a:ext cx="403884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ndst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sandstone photo"/>
          <p:cNvPicPr/>
          <p:nvPr/>
        </p:nvPicPr>
        <p:blipFill>
          <a:blip r:embed="rId1"/>
          <a:stretch/>
        </p:blipFill>
        <p:spPr>
          <a:xfrm>
            <a:off x="1752480" y="1600200"/>
            <a:ext cx="609624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0102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ltst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556272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ystalline Sedimentary Ro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poration of sea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cipitation of minerals from sea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ck Sa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3810240" cy="3810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676520" y="548640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ner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17:12:45Z</dcterms:created>
  <dc:creator>User</dc:creator>
  <dc:description/>
  <dc:language>en-US</dc:language>
  <cp:lastModifiedBy>User</cp:lastModifiedBy>
  <dcterms:modified xsi:type="dcterms:W3CDTF">2010-05-05T17:29:30Z</dcterms:modified>
  <cp:revision>2</cp:revision>
  <dc:subject/>
  <dc:title>Conglomerate</dc:title>
</cp:coreProperties>
</file>