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1CD-AD21-4D35-B9F0-ADEC9248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D98-F23A-43C9-9A9F-E498EC55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A46-58BC-420F-8FC0-1C2F0B92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737-F7BD-4626-AF2E-EA17BFD8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C27-47F4-4A79-9117-A5C2F948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A01-6C82-4FD9-B861-E853DA08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D21-8C06-474B-BE30-BAB67230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D66-E630-41EA-B2F7-D7E950C5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7D0-CE29-46F3-8607-0D4A14B4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143-E9DE-4A84-AC80-FD68A2B3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66A-512C-4ABF-B264-BFC35752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B68-B350-46BC-8E8D-0E357B04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F57B-B6E8-41CE-921E-6EAE84F24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y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920" y="0"/>
          <a:ext cx="91360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" y="0"/>
                    <a:ext cx="9136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Law states that when an unbalanced fore acts on an object, the object is accelerated in the direction of the for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used Newton’s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Law to find the mass of the cart by creating an unbalanced force on the cart and measured the acceleration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y-values are the force applied, the x-values are the acceleration and the plotted dots or the slope are the mas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orce needed to overcome the friction on the cart is the y-intercept, 4.9576 N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00200"/>
          <a:ext cx="8381880" cy="2437920"/>
        </p:xfrm>
        <a:graphic>
          <a:graphicData uri="http://schemas.openxmlformats.org/drawingml/2006/table">
            <a:tbl>
              <a:tblPr/>
              <a:tblGrid>
                <a:gridCol w="1047600"/>
                <a:gridCol w="1047960"/>
                <a:gridCol w="1047600"/>
                <a:gridCol w="1047960"/>
                <a:gridCol w="1047600"/>
                <a:gridCol w="1047960"/>
                <a:gridCol w="1047600"/>
                <a:gridCol w="1047600"/>
              </a:tblGrid>
              <a:tr h="12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ngth of Flag (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te #1 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te #2 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ance btn. Gates (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 (m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f (m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(m/s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57200" y="4038480"/>
          <a:ext cx="8381520" cy="1981440"/>
        </p:xfrm>
        <a:graphic>
          <a:graphicData uri="http://schemas.openxmlformats.org/drawingml/2006/table">
            <a:tbl>
              <a:tblPr/>
              <a:tblGrid>
                <a:gridCol w="1331280"/>
                <a:gridCol w="1410120"/>
                <a:gridCol w="1410120"/>
                <a:gridCol w="1410120"/>
                <a:gridCol w="1410120"/>
                <a:gridCol w="1409760"/>
              </a:tblGrid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Added (kg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ce Applied (N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Cart Exp. (kg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Cart Act. (kg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if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8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1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7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4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80880" y="4572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d/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d/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200/.52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.200/.2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384 m/s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.957 m/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^2=Vi^2+2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957^2=.384^2+2(a)1.5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915849=.147456+3.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76839=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254 m/s/s=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1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m*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m*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.600*9.8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886=m*.2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5.886 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3.173 kg=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act.-exp./act 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.820-23.173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21.353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1.73241758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,173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d/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d/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200/.34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.200/.2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587 m/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1.639 m/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^2=Vi^2+2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39^2=.587^2+2(a)1.5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686321=.344569+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341752=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773 m/s/s=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2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m*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m*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.800*9.8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848=m*.77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7.848 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.765 kg=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act.-exp/act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.820-10.765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8.945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4.914835165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49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d/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d/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200/.26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.200/.09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743 m/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2.128 m/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^2=Vi^2+2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128^2=.743^2+2(a)1.5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528384=.552049+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976335=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12 m/s/s=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3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m*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m*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1.000*9.8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.81=m*1.3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9.81 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477 kg=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act.-exp./act.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.820-7.477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5.657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3.108241758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31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81080" y="3657600"/>
            <a:ext cx="38124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29000" y="3124080"/>
            <a:ext cx="380880" cy="533160"/>
            <a:chOff x="3429000" y="3124080"/>
            <a:chExt cx="380880" cy="533160"/>
          </a:xfrm>
        </p:grpSpPr>
        <p:sp>
          <p:nvSpPr>
            <p:cNvPr id="54" name=""/>
            <p:cNvSpPr/>
            <p:nvPr/>
          </p:nvSpPr>
          <p:spPr>
            <a:xfrm flipV="1">
              <a:off x="3429000" y="350460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3581280" y="3124080"/>
              <a:ext cx="7632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248520" y="3124080"/>
            <a:ext cx="380880" cy="533160"/>
            <a:chOff x="6248520" y="3124080"/>
            <a:chExt cx="380880" cy="533160"/>
          </a:xfrm>
        </p:grpSpPr>
        <p:sp>
          <p:nvSpPr>
            <p:cNvPr id="57" name=""/>
            <p:cNvSpPr/>
            <p:nvPr/>
          </p:nvSpPr>
          <p:spPr>
            <a:xfrm flipV="1">
              <a:off x="6248520" y="350460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6400800" y="3124080"/>
              <a:ext cx="7632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362320" y="3657600"/>
            <a:ext cx="624816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3581280"/>
            <a:ext cx="53341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162920" y="3124080"/>
            <a:ext cx="1143000" cy="457200"/>
            <a:chOff x="7162920" y="3124080"/>
            <a:chExt cx="1143000" cy="457200"/>
          </a:xfrm>
        </p:grpSpPr>
        <p:sp>
          <p:nvSpPr>
            <p:cNvPr id="63" name=""/>
            <p:cNvSpPr/>
            <p:nvPr/>
          </p:nvSpPr>
          <p:spPr>
            <a:xfrm>
              <a:off x="7162920" y="3504960"/>
              <a:ext cx="1143000" cy="763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7315560" y="3124080"/>
              <a:ext cx="837720" cy="380880"/>
              <a:chOff x="7315560" y="3124080"/>
              <a:chExt cx="837720" cy="380880"/>
            </a:xfrm>
          </p:grpSpPr>
          <p:sp>
            <p:nvSpPr>
              <p:cNvPr id="65" name=""/>
              <p:cNvSpPr/>
              <p:nvPr/>
            </p:nvSpPr>
            <p:spPr>
              <a:xfrm>
                <a:off x="7315560" y="3276360"/>
                <a:ext cx="152280" cy="2282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467840" y="3124080"/>
                <a:ext cx="685440" cy="38088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1981080" y="3657600"/>
            <a:ext cx="228600" cy="228600"/>
            <a:chOff x="1981080" y="3657600"/>
            <a:chExt cx="228600" cy="228600"/>
          </a:xfrm>
        </p:grpSpPr>
        <p:sp>
          <p:nvSpPr>
            <p:cNvPr id="68" name=""/>
            <p:cNvSpPr/>
            <p:nvPr/>
          </p:nvSpPr>
          <p:spPr>
            <a:xfrm>
              <a:off x="1981080" y="3657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7400" y="37339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523880" y="1371240"/>
            <a:ext cx="228600" cy="228600"/>
            <a:chOff x="1523880" y="1371240"/>
            <a:chExt cx="228600" cy="228600"/>
          </a:xfrm>
        </p:grpSpPr>
        <p:sp>
          <p:nvSpPr>
            <p:cNvPr id="71" name=""/>
            <p:cNvSpPr/>
            <p:nvPr/>
          </p:nvSpPr>
          <p:spPr>
            <a:xfrm flipV="1">
              <a:off x="1523880" y="1370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600200" y="144720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1295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76160" y="1295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1447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1447920"/>
            <a:ext cx="22860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09680" y="35809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362320" y="3504960"/>
            <a:ext cx="4800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057400"/>
            <a:ext cx="1522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674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327672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981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1295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7:31:46Z</dcterms:created>
  <dc:creator>Panthers</dc:creator>
  <dc:description/>
  <dc:language>en-US</dc:language>
  <cp:lastModifiedBy>Panthers</cp:lastModifiedBy>
  <dcterms:modified xsi:type="dcterms:W3CDTF">2008-12-01T17:10:19Z</dcterms:modified>
  <cp:revision>6</cp:revision>
  <dc:subject/>
  <dc:title>Newton’s 2nd Law Lab</dc:title>
</cp:coreProperties>
</file>