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DD5-7082-48F1-98C6-0E5B4F1A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52-2AFF-453E-92BC-637387D1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6A7-06AF-4D4C-9658-E63C93CF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F5F-65DE-42EE-BA5A-F7E17161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0CCB-0B3B-429D-B9BF-33F11DB5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EA0-BE1F-4E1C-A36C-9F9902C4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45B-9D98-4D66-8462-CFD9FCF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B82-5D9A-417B-841E-786F6D17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9E2-7EC9-4277-BB62-B9E8BB09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BFF-DD23-42C3-813B-A11F02CF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E63-8111-4E7A-8057-2A62B66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AEA-4496-48DC-9F32-A4EF07FE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491-C754-47CE-AE7F-40539CBA0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y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920" y="0"/>
          <a:ext cx="91360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" y="0"/>
                    <a:ext cx="91360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states that when an unbalanced fore acts on an object, the object is accelerated in the direction of the for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used Newton’s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w to find the mass of the cart by creating an unbalanced force on the cart and measured the acceleration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y-values are the force applied, the x-values are the acceleration and the plotted dots or the slope are the ma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orce needed to overcome the friction on the cart is the y-intercept, 4.9576 N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00200"/>
          <a:ext cx="8381880" cy="243792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7960"/>
                <a:gridCol w="1047600"/>
                <a:gridCol w="1047960"/>
                <a:gridCol w="1047600"/>
                <a:gridCol w="1047600"/>
              </a:tblGrid>
              <a:tr h="12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 of Flag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1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te #2 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e btn. Gates (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f (m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(m/s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95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57200" y="4038480"/>
          <a:ext cx="8381520" cy="1981440"/>
        </p:xfrm>
        <a:graphic>
          <a:graphicData uri="http://schemas.openxmlformats.org/drawingml/2006/table">
            <a:tbl>
              <a:tblPr/>
              <a:tblGrid>
                <a:gridCol w="1331280"/>
                <a:gridCol w="1410120"/>
                <a:gridCol w="1410120"/>
                <a:gridCol w="1410120"/>
                <a:gridCol w="1410120"/>
                <a:gridCol w="1409760"/>
              </a:tblGrid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Added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ce Applied (N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Exp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s of Cart Act. (kg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Dif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8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7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w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52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384 m/s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957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57^2=.384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915849=.147456+3.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6839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254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1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6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886=m*.2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5.886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3.173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 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23.17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21.353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1.73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,173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34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2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587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1.639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639^2=.587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686321=.34456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341752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773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2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.8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848=m*.77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7.848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765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/act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10.76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8.945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.914835165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49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d/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d/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200/.269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.200/.0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=.743 m/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=2.128 m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f^2=Vi^2+2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128^2=.743^2+2(a)1.5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528384=.552049+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976335=3.03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312 m/s/s=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ial #3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m*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=m*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1.000*9.8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81=m*1.3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=9.81 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477 kg=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act.-exp./act.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1.820-7.47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5.657/1.820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.108241758*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diff=31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81080" y="3657600"/>
            <a:ext cx="38124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124080"/>
            <a:ext cx="380880" cy="533160"/>
            <a:chOff x="3429000" y="3124080"/>
            <a:chExt cx="380880" cy="533160"/>
          </a:xfrm>
        </p:grpSpPr>
        <p:sp>
          <p:nvSpPr>
            <p:cNvPr id="54" name=""/>
            <p:cNvSpPr/>
            <p:nvPr/>
          </p:nvSpPr>
          <p:spPr>
            <a:xfrm flipV="1">
              <a:off x="342900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58128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248520" y="3124080"/>
            <a:ext cx="380880" cy="533160"/>
            <a:chOff x="6248520" y="3124080"/>
            <a:chExt cx="380880" cy="533160"/>
          </a:xfrm>
        </p:grpSpPr>
        <p:sp>
          <p:nvSpPr>
            <p:cNvPr id="57" name=""/>
            <p:cNvSpPr/>
            <p:nvPr/>
          </p:nvSpPr>
          <p:spPr>
            <a:xfrm flipV="1">
              <a:off x="6248520" y="3504600"/>
              <a:ext cx="3808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6400800" y="3124080"/>
              <a:ext cx="7632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362320" y="3657600"/>
            <a:ext cx="624816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012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3581280"/>
            <a:ext cx="5334120" cy="76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162920" y="3124080"/>
            <a:ext cx="1143000" cy="457200"/>
            <a:chOff x="7162920" y="3124080"/>
            <a:chExt cx="1143000" cy="457200"/>
          </a:xfrm>
        </p:grpSpPr>
        <p:sp>
          <p:nvSpPr>
            <p:cNvPr id="63" name=""/>
            <p:cNvSpPr/>
            <p:nvPr/>
          </p:nvSpPr>
          <p:spPr>
            <a:xfrm>
              <a:off x="7162920" y="3504960"/>
              <a:ext cx="1143000" cy="763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7315560" y="3124080"/>
              <a:ext cx="837720" cy="380880"/>
              <a:chOff x="7315560" y="3124080"/>
              <a:chExt cx="83772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7315560" y="3276360"/>
                <a:ext cx="152280" cy="2282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467840" y="3124080"/>
                <a:ext cx="685440" cy="38088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1981080" y="3657600"/>
            <a:ext cx="228600" cy="228600"/>
            <a:chOff x="1981080" y="3657600"/>
            <a:chExt cx="228600" cy="228600"/>
          </a:xfrm>
        </p:grpSpPr>
        <p:sp>
          <p:nvSpPr>
            <p:cNvPr id="68" name=""/>
            <p:cNvSpPr/>
            <p:nvPr/>
          </p:nvSpPr>
          <p:spPr>
            <a:xfrm>
              <a:off x="1981080" y="36576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3733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523880" y="1371240"/>
            <a:ext cx="228600" cy="228600"/>
            <a:chOff x="1523880" y="1371240"/>
            <a:chExt cx="228600" cy="228600"/>
          </a:xfrm>
        </p:grpSpPr>
        <p:sp>
          <p:nvSpPr>
            <p:cNvPr id="71" name=""/>
            <p:cNvSpPr/>
            <p:nvPr/>
          </p:nvSpPr>
          <p:spPr>
            <a:xfrm flipV="1">
              <a:off x="1523880" y="1370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600200" y="144720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76160" y="1295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1447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1447920"/>
            <a:ext cx="22860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09680" y="3580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3504960"/>
            <a:ext cx="4800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1522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05920" y="327672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2819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81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81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295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7:31:46Z</dcterms:created>
  <dc:creator>Panthers</dc:creator>
  <dc:description/>
  <dc:language>en-US</dc:language>
  <cp:lastModifiedBy>Panthers</cp:lastModifiedBy>
  <dcterms:modified xsi:type="dcterms:W3CDTF">2008-12-01T17:10:19Z</dcterms:modified>
  <cp:revision>6</cp:revision>
  <dc:subject/>
  <dc:title>Newton’s 2nd Law Lab</dc:title>
</cp:coreProperties>
</file>