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4759-CF97-4383-9188-E2625BB2F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0292-EA27-4138-8AE6-BF335A61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25CC-1656-4514-ABE7-0315D126B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2805-42AA-415F-ABD2-A618C4018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9AF9-FD0E-4F7C-97F4-4968781F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8019-49E5-423B-84EB-C6B9C400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2BBE-E62E-4A3B-BF0D-75580FEA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E5C7-2397-4855-AF12-C4123CE5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3FD3-90CA-4D1E-BF80-017F01E5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84C9-9611-4AFE-8732-75792021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5F9F-F508-4E27-9927-D6564B2D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EC8B-0866-4450-BC56-A74CC7B3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49B2-5418-4C4A-B3E7-580E542C9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ton’s 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aw 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y 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/1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7920" y="0"/>
          <a:ext cx="913608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" y="0"/>
                    <a:ext cx="91360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wton’s 2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Law states that when an unbalanced fore acts on an object, the object is accelerated in the direction of the forc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e used Newton’s 2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Law to find the mass of the cart by creating an unbalanced force on the cart and measured the acceleration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y-values are the force applied, the x-values are the acceleration and the plotted dots or the slope are the mas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force needed to overcome the friction on the cart is the y-intercept, 4.9576 N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1600200"/>
          <a:ext cx="8381880" cy="2437920"/>
        </p:xfrm>
        <a:graphic>
          <a:graphicData uri="http://schemas.openxmlformats.org/drawingml/2006/table">
            <a:tbl>
              <a:tblPr/>
              <a:tblGrid>
                <a:gridCol w="1047600"/>
                <a:gridCol w="1047960"/>
                <a:gridCol w="1047600"/>
                <a:gridCol w="1047960"/>
                <a:gridCol w="1047600"/>
                <a:gridCol w="1047960"/>
                <a:gridCol w="1047600"/>
                <a:gridCol w="1047600"/>
              </a:tblGrid>
              <a:tr h="1274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ngth of Flag (m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te #1 (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te #2 (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ance btn. Gates (m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 (m/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f (m/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(m/s/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0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5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3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7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9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4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2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457200" y="4038480"/>
          <a:ext cx="8381520" cy="1981440"/>
        </p:xfrm>
        <a:graphic>
          <a:graphicData uri="http://schemas.openxmlformats.org/drawingml/2006/table">
            <a:tbl>
              <a:tblPr/>
              <a:tblGrid>
                <a:gridCol w="1331280"/>
                <a:gridCol w="1410120"/>
                <a:gridCol w="1410120"/>
                <a:gridCol w="1410120"/>
                <a:gridCol w="1410120"/>
                <a:gridCol w="1409760"/>
              </a:tblGrid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s Added (kg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ce Applied (N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s of Cart Exp. (kg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s of Cart Act. (kg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Differe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8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17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8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7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8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7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8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47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8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380880" y="45720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ton’s 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aw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ial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=d/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f=d/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=.200/.521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f=.200/.20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=.384 m/s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f=.957 m/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f^2=Vi^2+2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957^2=.384^2+2(a)1.5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915849=.147456+3.0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76839=3.03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254 m/s/s=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ial #1 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=m*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=m*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=.600*9.8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.886=m*.25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=5.886 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3.173 kg=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diff=act.-exp./act *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diff=1.820-23.173/1.820*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diff=21.353/1.820*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diff=11.73241758*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diff=1,173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ial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=d/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f=d/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=.200/.34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f=.200/.20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=.587 m/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f=1.639 m/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f^2=Vi^2+2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639^2=.587^2+2(a)1.5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686321=.344569+3.03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341752=3.03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773 m/s/s=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ial #2 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=m*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=m*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=.800*9.8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.848=m*.77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=7.848 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.765 kg=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diff=act.-exp/act*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diff=1.820-10.765/1.820*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diff=8.945/1.820*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diff=4.914835165*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diff=491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ial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=d/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f=d/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=.200/.269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f=.200/.09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=.743 m/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f=2.128 m/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f^2=Vi^2+2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128^2=.743^2+2(a)1.5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528384=.552049+3.03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976335=3.03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312 m/s/s=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ial #3 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=m*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=m*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=1.000*9.8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9.81=m*1.3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=9.81 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.477 kg=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diff=act.-exp./act.*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diff=1.820-7.477/1.820*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diff=5.657/1.820*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diff=3.108241758*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diff=311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81080" y="3657600"/>
            <a:ext cx="38124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429000" y="3124080"/>
            <a:ext cx="380880" cy="533160"/>
            <a:chOff x="3429000" y="3124080"/>
            <a:chExt cx="380880" cy="533160"/>
          </a:xfrm>
        </p:grpSpPr>
        <p:sp>
          <p:nvSpPr>
            <p:cNvPr id="54" name=""/>
            <p:cNvSpPr/>
            <p:nvPr/>
          </p:nvSpPr>
          <p:spPr>
            <a:xfrm flipV="1">
              <a:off x="3429000" y="3504600"/>
              <a:ext cx="380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flipV="1">
              <a:off x="3581280" y="3124080"/>
              <a:ext cx="7632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248520" y="3124080"/>
            <a:ext cx="380880" cy="533160"/>
            <a:chOff x="6248520" y="3124080"/>
            <a:chExt cx="380880" cy="533160"/>
          </a:xfrm>
        </p:grpSpPr>
        <p:sp>
          <p:nvSpPr>
            <p:cNvPr id="57" name=""/>
            <p:cNvSpPr/>
            <p:nvPr/>
          </p:nvSpPr>
          <p:spPr>
            <a:xfrm flipV="1">
              <a:off x="6248520" y="3504600"/>
              <a:ext cx="380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6400800" y="3124080"/>
              <a:ext cx="7632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362320" y="3657600"/>
            <a:ext cx="6248160" cy="2666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201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3581280"/>
            <a:ext cx="5334120" cy="76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7162920" y="3124080"/>
            <a:ext cx="1143000" cy="457200"/>
            <a:chOff x="7162920" y="3124080"/>
            <a:chExt cx="1143000" cy="457200"/>
          </a:xfrm>
        </p:grpSpPr>
        <p:sp>
          <p:nvSpPr>
            <p:cNvPr id="63" name=""/>
            <p:cNvSpPr/>
            <p:nvPr/>
          </p:nvSpPr>
          <p:spPr>
            <a:xfrm>
              <a:off x="7162920" y="3504960"/>
              <a:ext cx="1143000" cy="763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7315560" y="3124080"/>
              <a:ext cx="837720" cy="380880"/>
              <a:chOff x="7315560" y="3124080"/>
              <a:chExt cx="837720" cy="380880"/>
            </a:xfrm>
          </p:grpSpPr>
          <p:sp>
            <p:nvSpPr>
              <p:cNvPr id="65" name=""/>
              <p:cNvSpPr/>
              <p:nvPr/>
            </p:nvSpPr>
            <p:spPr>
              <a:xfrm>
                <a:off x="7315560" y="3276360"/>
                <a:ext cx="152280" cy="2282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467840" y="3124080"/>
                <a:ext cx="685440" cy="380880"/>
              </a:xfrm>
              <a:prstGeom prst="rect">
                <a:avLst/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" name=""/>
          <p:cNvGrpSpPr/>
          <p:nvPr/>
        </p:nvGrpSpPr>
        <p:grpSpPr>
          <a:xfrm>
            <a:off x="1981080" y="3657600"/>
            <a:ext cx="228600" cy="228600"/>
            <a:chOff x="1981080" y="3657600"/>
            <a:chExt cx="228600" cy="228600"/>
          </a:xfrm>
        </p:grpSpPr>
        <p:sp>
          <p:nvSpPr>
            <p:cNvPr id="68" name=""/>
            <p:cNvSpPr/>
            <p:nvPr/>
          </p:nvSpPr>
          <p:spPr>
            <a:xfrm>
              <a:off x="1981080" y="3657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57400" y="373392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523880" y="1371240"/>
            <a:ext cx="228600" cy="228600"/>
            <a:chOff x="1523880" y="1371240"/>
            <a:chExt cx="228600" cy="228600"/>
          </a:xfrm>
        </p:grpSpPr>
        <p:sp>
          <p:nvSpPr>
            <p:cNvPr id="71" name=""/>
            <p:cNvSpPr/>
            <p:nvPr/>
          </p:nvSpPr>
          <p:spPr>
            <a:xfrm flipV="1">
              <a:off x="1523880" y="1370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600200" y="144720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1295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76160" y="1295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1447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52480" y="1447920"/>
            <a:ext cx="22860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209680" y="35809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362320" y="3504960"/>
            <a:ext cx="4800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2057400"/>
            <a:ext cx="152280" cy="228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0" y="6324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6748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305920" y="3276720"/>
            <a:ext cx="12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2819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3600" y="2819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1371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581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9810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2057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00600" y="1295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17:31:46Z</dcterms:created>
  <dc:creator>Panthers</dc:creator>
  <dc:description/>
  <dc:language>en-US</dc:language>
  <cp:lastModifiedBy>Panthers</cp:lastModifiedBy>
  <dcterms:modified xsi:type="dcterms:W3CDTF">2008-12-01T17:10:19Z</dcterms:modified>
  <cp:revision>6</cp:revision>
  <dc:subject/>
  <dc:title>Newton’s 2nd Law Lab</dc:title>
</cp:coreProperties>
</file>